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.png" ContentType="image/png"/>
  <Override PartName="/ppt/media/image17.jpeg" ContentType="image/jpeg"/>
  <Override PartName="/ppt/media/image13.png" ContentType="image/png"/>
  <Override PartName="/ppt/media/image8.wmf" ContentType="image/x-wmf"/>
  <Override PartName="/ppt/media/image4.jpeg" ContentType="image/jpeg"/>
  <Override PartName="/ppt/media/image25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9.wmf" ContentType="image/x-wmf"/>
  <Override PartName="/ppt/media/image21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5145088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D785C-3A69-423C-8B1B-41AB76E1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3787D-3A92-46C5-83FC-5128968F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D8E8F-647E-408C-A32C-F5ECE686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70D72-4E83-446F-A752-05CAC1D8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4653E-A255-400D-8B1F-E747D08B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048C4-1AB5-4F29-9E92-9BE0DA78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BA63A-8CE8-4AF3-A335-47FEE316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D4700-4A70-4E24-BC8D-0DA6CB4C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F0F7B-325E-4115-A3EE-1F714827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99FAC-7BC6-47F3-8603-1F0ADE27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FE10A-CB20-46AE-BAD6-4C73D403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78C02-010E-4453-8AB8-435A923A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EE2D8-D23C-4C2B-A6CF-1B55EC16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6D91B-DEDA-4B82-888D-0F0AA366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32E85-E7ED-477F-A37C-0B8EA539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FA7BE-1D9E-4BF3-AA20-A9DFDD6D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690DD-2814-4BBB-9422-D6EE4E32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F4892-3FF0-4D7B-AEBF-3B66D8B0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969D1-2F18-44DA-9696-AB83A2BB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03068-B5F4-4B49-8748-00FAD17C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1669B-BDEE-49F7-BB4F-79E86E75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B426B-492C-4AD1-8205-79824286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239A7-279D-4E49-8F4E-643BE2AB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91F76-91A1-46A2-84E3-FE4743DF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6F799-D5DC-4BCE-9F8C-056A99F2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C2247-C45F-4928-BEAB-D557DC44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D420B-0014-4EC4-8E62-29A04998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14F73-1863-4219-AB8C-29D7A639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8AAF1-E67B-4551-A242-CE5F5750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0DCEC-1AD3-401D-B5CB-2634B97B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F56-B83F-4CB1-B3CA-80529D3A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60A24-5900-4EC2-84FF-D7B59192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13D15-4634-441F-83A9-27EB526B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F9D93-5333-41FD-8DA1-A5885A0D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DC4D0-C1F4-402D-8517-E51986AF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8E4F8-92F5-43C1-9F7C-C240B5B2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7C33A-C80E-4055-A72C-D6E8CF03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33AE6-ED0F-458F-98E6-4D48AF0D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1321E-32C6-4CBF-986A-033926C2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98859-E847-47DE-9C0A-B91A51A9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6EAA2-52B3-4DF9-B2C4-576B8950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72E-2C11-47E2-81FA-81BEFC5A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86754-D81E-4886-AA15-0FA3DE92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F3060-8D32-4541-96EA-F30FFEEE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34A2D-C36A-4AA8-8562-0FAC01FD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30F4F-43A5-430F-B07C-359C573C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70DAD-5C56-442F-AD18-776D31F9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BBA-EA4E-48F1-A0C5-75984E37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832-6C44-49F3-95DD-D2D87A42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7EE-5870-4148-AB89-072E65C0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7BF-3C78-4D14-BA71-8E5AB42F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EE1-7428-414C-8609-AEA917AE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E8B1-8EBE-4BF6-B225-8FC03F12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AED-0732-41B0-8930-BD08BEE8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C06-E7B6-4F0E-8F80-4EBAF9FA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583-0CCB-4613-9E1F-E0711981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26F2-AD7B-4183-89E1-4061F7E4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0F11-D330-4A23-AFC7-D45570C7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7D3C-5D97-4E06-AD6F-72AB1F46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98F9-B713-4A37-9382-E76DCDD3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15E5-57A3-4E1E-AB2D-5352D77E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72E6-9DB0-4D16-929C-D894F2EC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7846-B748-43AB-B696-1A85F2D8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92A0-F48F-40FB-A3D7-99DE2158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4E6A-FBA0-448F-89F4-591ECF5A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E36F-B5F5-47CE-B520-CF50DD09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5E5A-50EA-4079-9FB3-23AD1444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7F75-1207-4C21-BC15-C3B914DD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3BE1-92A4-4248-957D-EE4B5F68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94B4F-071C-41A3-9524-45E9F100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2CA5D-0EF2-430C-80F3-57C2A732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E497-AF24-41EB-B031-17F21C06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B83B-C8F1-4ED7-97C6-F5C0D2F5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28BA2-8AC2-4CC3-A21C-C42982D4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2712D-2CAA-4C6A-B8CF-2714DE61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B83D9-04F8-40AF-A212-A532ED2D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EFED1-BF16-4B04-BF1C-4954FFC3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B494D-90D1-4F1D-AC1C-443A9016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10047-43F5-47A2-A767-692322AC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C2CCF-47AE-4E5D-A042-DF85E3F7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EED29-4927-425E-BD8C-9338A870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8A298-234A-4F6B-883F-6957FEE7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9A844-EF4B-431C-B571-B08947E2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C2E06-4C0A-4731-97E9-4622E538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8B999-AF10-40EE-A304-B4DAD513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CCBAC-34A7-4DB3-8B75-2AFE967C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3E9F9-2C79-481E-92D1-D221A24E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C06AB-E438-41EE-8A81-1245AA7F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B95EF-6A6F-4C11-BAF2-F7119F0A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93EBF-6917-44B7-8470-5A85F5CD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708C3-6C97-4332-860E-BBC1E1D3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28CD2-B712-4373-A78F-28EDDCA1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A7F10-F117-429C-9BDC-BE9307E8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3443D-4915-4E24-964E-CC89668C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DF824-0DBF-49A7-9A08-58F55B96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E4908-BC0D-4C1F-83D9-EDFF8A13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F22E0-FEDB-4EE2-82BA-E9152E29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FAD0C-2E44-4962-9268-F62B7868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A85B3-728D-4403-94E7-A55BABA6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F836D-9FB3-4F8E-A3E5-20B2E4AE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273FB-043B-4502-86E5-A4094E09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41908-FE60-4BA1-A9DB-5315DD0B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62820-9A39-4454-A686-5E1E386F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4CBE0-494E-4163-B9C1-9DAB034E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D65A6-B177-4A68-B652-6A29A9FE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4DD39-2B7C-4A53-9316-9D86187B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C11E7-91A1-493D-AA33-F9ACB2D0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5BD62-02A7-4832-9597-1B397BE8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27F39-717A-4B5E-961C-6D7C27EA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81972-2163-4DD2-9B99-04D17D40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D6177-15FE-493B-885E-A34EDCD3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D5659-2C95-4760-9579-EF59D87B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0CC8A-38D4-4137-98AE-7B9A4964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FACBC-D118-47F3-AB0D-60AAE68E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CE685-8E20-4651-91D4-857E74EB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BC3F1-E5AB-4976-AF45-93E26611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223AC-BCD3-45DB-BBE3-A36B6F66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63345-15BF-4A82-AFE6-DA4770A0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E9785-B373-48C6-BC6D-C4FB5721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92376-1268-416C-A1C8-FC15EB0E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971DD-F373-45B6-9A87-E4057F05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C288B-B9E9-408B-9776-94CC1AC8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8A863-D154-4186-9215-FFDFE7D2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24039-779C-44F5-A09A-8D964355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8F66A-0330-4BE9-8C1F-548790BC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00254-26F3-4C2E-B14B-C7F75B2F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88D83-3E01-4835-8084-767D6716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CDD36-BCCD-44D9-AF00-FE533F17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B1EC8-87C9-47AD-AE05-95E03A50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50774-4488-4414-BD65-2CBCA784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26328-C3B1-4065-A7FC-EF482FED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DDFE4-FB8F-43D4-84E3-A9341BA4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644E-E4AB-48C3-B74A-1A6018D8FE05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E CUSTOS EMPRESARIAIS NO NEGÓCIO TRANSMISS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0EF8-125C-48E1-BF1E-D4F9FE1171A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41BA-E778-43F5-9A86-9D02920E60D5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E CUSTOS EMPRESARIAIS NO NEGÓCIO TRANSMISS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2584-88B9-4F95-A0CF-C285EB08DF3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9FA8-CDB8-4ED9-ADDA-751ECF0FF5EA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E CUSTOS EMPRESARIAIS NO NEGÓCIO TRANSMISS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B145-6B1B-4972-A219-84E5A25B629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28D6-EFB7-4BC0-AA13-AD201216FE33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E CUSTOS EMPRESARIAIS NO NEGÓCIO TRANSMISS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87AC-4771-488F-A971-553B8856763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5961-ACAC-4AD5-936B-93978988FB27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E CUSTOS EMPRESARIAIS NO NEGÓCIO TRANSMISS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DB4C-CD1F-4A2F-9B39-59EF32F878B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966C-943A-4E1F-BDE4-10DDBC96675C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E CUSTOS EMPRESARIAIS NO NEGÓCIO TRANSMISS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0B71-09B8-4480-A8DB-B51A4F14173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3B6F-5B3C-44D2-910B-BD9CE275F63E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E CUSTOS EMPRESARIAIS NO NEGÓCIO TRANSMISS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FFDA-ABA6-4504-8632-6AEBEFF0DC2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4B39-ABFC-4E04-84B2-E33C8210B030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E CUSTOS EMPRESARIAIS NO NEGÓCIO TRANSMISS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BB36-0328-4B11-964B-EF2A75DE989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D767-5CC9-4386-A5DB-98219FD1616C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E CUSTOS EMPRESARIAIS NO NEGÓCIO TRANSMISS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70F7-F901-4146-A498-F8D9601EDD4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727D-D8C9-4DEA-A82E-58F543FA0DE4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E CUSTOS EMPRESARIAIS NO NEGÓCIO TRANSMISS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0E0C-6A4C-436E-BB4E-3134C68B866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NOME DA APRESENTAÇÃO   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rupo de estudo /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179280" y="19512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logotipo d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f7f7f"/>
                </a:solidFill>
                <a:latin typeface="Calibri"/>
              </a:rPr>
              <a:t>empresa/instituiçã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3324-ED16-47A8-89BC-B8794DAA896C}" type="datetime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E CUSTOS EMPRESARIAIS NO NEGÓCIO TRANSMISS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5284-200F-47FE-B952-7DF2DE34AB5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2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5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ZEUS\ArquivosWX\Clientes\SNPTEE 2017\SNPTEE\Arquivos\Sem Título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3"/>
          <p:cNvSpPr/>
          <p:nvPr/>
        </p:nvSpPr>
        <p:spPr>
          <a:xfrm>
            <a:off x="324000" y="38671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GEC/ Ana Rita Mussi e Marcos Paulo Rezen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184320" y="156384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f7f7f"/>
                </a:solidFill>
                <a:latin typeface="Arial"/>
                <a:ea typeface="Verdana"/>
              </a:rPr>
              <a:t>GESTÃO DE CUSTOS EMPRESARIAIS NO NEGÓCIO TRANSMISSÃ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traight Connector 7"/>
          <p:cNvSpPr/>
          <p:nvPr/>
        </p:nvSpPr>
        <p:spPr>
          <a:xfrm>
            <a:off x="-36360" y="4659480"/>
            <a:ext cx="3168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Imagem 8" descr=""/>
          <p:cNvPicPr/>
          <p:nvPr/>
        </p:nvPicPr>
        <p:blipFill>
          <a:blip r:embed="rId2"/>
          <a:stretch/>
        </p:blipFill>
        <p:spPr>
          <a:xfrm>
            <a:off x="482760" y="503280"/>
            <a:ext cx="1785600" cy="652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13"/>
          <p:cNvSpPr/>
          <p:nvPr/>
        </p:nvSpPr>
        <p:spPr>
          <a:xfrm>
            <a:off x="2430360" y="41112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GESTÃO DOS CUSTOS VISIVEIS (PMS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CaixaDeTexto 4"/>
          <p:cNvSpPr/>
          <p:nvPr/>
        </p:nvSpPr>
        <p:spPr>
          <a:xfrm>
            <a:off x="81000" y="4840200"/>
            <a:ext cx="5759280" cy="398520"/>
          </a:xfrm>
          <a:prstGeom prst="rect">
            <a:avLst/>
          </a:prstGeom>
          <a:solidFill>
            <a:srgbClr val="296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  <a:ea typeface="Verdana"/>
              </a:rPr>
              <a:t>GESTÃO DE CUSTOS EMPRESARIAIS NO NEGÓCIO TRANSMISSÃO – GEC / Ana Rita Muss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8"/>
          <p:cNvSpPr/>
          <p:nvPr/>
        </p:nvSpPr>
        <p:spPr>
          <a:xfrm>
            <a:off x="752472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3" name="Picture 5" descr=""/>
          <p:cNvPicPr/>
          <p:nvPr/>
        </p:nvPicPr>
        <p:blipFill>
          <a:blip r:embed="rId1"/>
          <a:stretch/>
        </p:blipFill>
        <p:spPr>
          <a:xfrm>
            <a:off x="152280" y="133200"/>
            <a:ext cx="1755720" cy="63828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6" descr=""/>
          <p:cNvPicPr/>
          <p:nvPr/>
        </p:nvPicPr>
        <p:blipFill>
          <a:blip r:embed="rId2"/>
          <a:stretch/>
        </p:blipFill>
        <p:spPr>
          <a:xfrm>
            <a:off x="187200" y="987480"/>
            <a:ext cx="87775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Oval 14"/>
          <p:cNvSpPr/>
          <p:nvPr/>
        </p:nvSpPr>
        <p:spPr>
          <a:xfrm>
            <a:off x="766764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2530800" y="41112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GESTÃO DOS CUSTOS INVISIVE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Imagem 2" descr=""/>
          <p:cNvPicPr/>
          <p:nvPr/>
        </p:nvPicPr>
        <p:blipFill>
          <a:blip r:embed="rId1"/>
          <a:stretch/>
        </p:blipFill>
        <p:spPr>
          <a:xfrm>
            <a:off x="5940360" y="1419120"/>
            <a:ext cx="2238480" cy="2239920"/>
          </a:xfrm>
          <a:prstGeom prst="rect">
            <a:avLst/>
          </a:prstGeom>
          <a:ln w="0">
            <a:noFill/>
          </a:ln>
        </p:spPr>
      </p:pic>
      <p:grpSp>
        <p:nvGrpSpPr>
          <p:cNvPr id="798" name="Espaço Reservado para Conteúdo 2"/>
          <p:cNvGrpSpPr/>
          <p:nvPr/>
        </p:nvGrpSpPr>
        <p:grpSpPr>
          <a:xfrm>
            <a:off x="457200" y="1487520"/>
            <a:ext cx="4475160" cy="2809800"/>
            <a:chOff x="457200" y="1487520"/>
            <a:chExt cx="4475160" cy="2809800"/>
          </a:xfrm>
        </p:grpSpPr>
        <p:pic>
          <p:nvPicPr>
            <p:cNvPr id="799" name="Espaço Reservado para Conteúdo 2" descr=""/>
            <p:cNvPicPr/>
            <p:nvPr/>
          </p:nvPicPr>
          <p:blipFill>
            <a:blip r:embed="rId2"/>
            <a:stretch/>
          </p:blipFill>
          <p:spPr>
            <a:xfrm>
              <a:off x="457200" y="1487520"/>
              <a:ext cx="4475160" cy="28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457200" y="1487520"/>
              <a:ext cx="4475160" cy="28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armonia e desgastes pessoa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liticagem, fofocas e boato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ma pesado e crítica destrutiv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onfiança e mau uso dos recurso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tura de “não me importo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lamento e falta de energi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omodação pelo sucesso parad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Rectangle 13"/>
          <p:cNvSpPr/>
          <p:nvPr/>
        </p:nvSpPr>
        <p:spPr>
          <a:xfrm>
            <a:off x="474840" y="1122480"/>
            <a:ext cx="41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ahoma"/>
              </a:rPr>
              <a:t>EXEMPLOS DE CUSTOS INVISIVEI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CaixaDeTexto 7"/>
          <p:cNvSpPr/>
          <p:nvPr/>
        </p:nvSpPr>
        <p:spPr>
          <a:xfrm>
            <a:off x="81000" y="4840200"/>
            <a:ext cx="5759280" cy="398520"/>
          </a:xfrm>
          <a:prstGeom prst="rect">
            <a:avLst/>
          </a:prstGeom>
          <a:solidFill>
            <a:srgbClr val="296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  <a:ea typeface="Verdana"/>
              </a:rPr>
              <a:t>GESTÃO DE CUSTOS EMPRESARIAIS NO NEGÓCIO TRANSMISSÃO – GEC / Ana Rita Muss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Picture 5" descr=""/>
          <p:cNvPicPr/>
          <p:nvPr/>
        </p:nvPicPr>
        <p:blipFill>
          <a:blip r:embed="rId3"/>
          <a:stretch/>
        </p:blipFill>
        <p:spPr>
          <a:xfrm>
            <a:off x="152280" y="133200"/>
            <a:ext cx="17557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Imagem 4" descr=""/>
          <p:cNvPicPr/>
          <p:nvPr/>
        </p:nvPicPr>
        <p:blipFill>
          <a:blip r:embed="rId1"/>
          <a:stretch/>
        </p:blipFill>
        <p:spPr>
          <a:xfrm>
            <a:off x="611280" y="2379600"/>
            <a:ext cx="5027400" cy="2279880"/>
          </a:xfrm>
          <a:prstGeom prst="rect">
            <a:avLst/>
          </a:prstGeom>
          <a:ln w="0">
            <a:noFill/>
          </a:ln>
        </p:spPr>
      </p:pic>
      <p:sp>
        <p:nvSpPr>
          <p:cNvPr id="805" name="Oval 15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6" name="Imagem 2" descr=""/>
          <p:cNvPicPr/>
          <p:nvPr/>
        </p:nvPicPr>
        <p:blipFill>
          <a:blip r:embed="rId2"/>
          <a:stretch/>
        </p:blipFill>
        <p:spPr>
          <a:xfrm>
            <a:off x="108000" y="8571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807" name="Imagem 3" descr=""/>
          <p:cNvPicPr/>
          <p:nvPr/>
        </p:nvPicPr>
        <p:blipFill>
          <a:blip r:embed="rId3"/>
          <a:stretch/>
        </p:blipFill>
        <p:spPr>
          <a:xfrm>
            <a:off x="5111640" y="1058760"/>
            <a:ext cx="4032360" cy="285300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13"/>
          <p:cNvSpPr/>
          <p:nvPr/>
        </p:nvSpPr>
        <p:spPr>
          <a:xfrm>
            <a:off x="2530800" y="41112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GESTÃO DOS CUSTOS INVISIVE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CaixaDeTexto 6"/>
          <p:cNvSpPr/>
          <p:nvPr/>
        </p:nvSpPr>
        <p:spPr>
          <a:xfrm>
            <a:off x="81000" y="4840200"/>
            <a:ext cx="5759280" cy="398520"/>
          </a:xfrm>
          <a:prstGeom prst="rect">
            <a:avLst/>
          </a:prstGeom>
          <a:solidFill>
            <a:srgbClr val="296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  <a:ea typeface="Verdana"/>
              </a:rPr>
              <a:t>GESTÃO DE CUSTOS EMPRESARIAIS NO NEGÓCIO TRANSMISSÃO – GEC / Ana Rita Muss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5" descr=""/>
          <p:cNvPicPr/>
          <p:nvPr/>
        </p:nvPicPr>
        <p:blipFill>
          <a:blip r:embed="rId4"/>
          <a:stretch/>
        </p:blipFill>
        <p:spPr>
          <a:xfrm>
            <a:off x="152280" y="133200"/>
            <a:ext cx="17557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Espaço Reservado para Conteúdo 2"/>
          <p:cNvGrpSpPr/>
          <p:nvPr/>
        </p:nvGrpSpPr>
        <p:grpSpPr>
          <a:xfrm>
            <a:off x="324000" y="1122480"/>
            <a:ext cx="4967280" cy="3394080"/>
            <a:chOff x="324000" y="1122480"/>
            <a:chExt cx="4967280" cy="3394080"/>
          </a:xfrm>
        </p:grpSpPr>
        <p:pic>
          <p:nvPicPr>
            <p:cNvPr id="812" name="Espaço Reservado para Conteúdo 2" descr=""/>
            <p:cNvPicPr/>
            <p:nvPr/>
          </p:nvPicPr>
          <p:blipFill>
            <a:blip r:embed="rId1"/>
            <a:stretch/>
          </p:blipFill>
          <p:spPr>
            <a:xfrm>
              <a:off x="324000" y="1123920"/>
              <a:ext cx="4965840" cy="33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324000" y="1122480"/>
              <a:ext cx="4967280" cy="33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iniciativa de identificar a criticidade dos custos invisíveis ainda não foi realizada na Copel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s custos invisíveis, segundo metodologia </a:t>
              </a:r>
              <a:r>
                <a:rPr b="0" i="1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ana-Ke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foram percebidos pelos empregados como presentes nas equipes, e/ou nas áreas, ou ainda na Companhia;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á necessidade de tratar os custos invisíveis para buscar melhores resultados e cumprimento das estratégias planejada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4" name="Picture 2" descr=""/>
          <p:cNvPicPr/>
          <p:nvPr/>
        </p:nvPicPr>
        <p:blipFill>
          <a:blip r:embed="rId2"/>
          <a:stretch/>
        </p:blipFill>
        <p:spPr>
          <a:xfrm>
            <a:off x="5611680" y="2206800"/>
            <a:ext cx="2806920" cy="138240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13"/>
          <p:cNvSpPr/>
          <p:nvPr/>
        </p:nvSpPr>
        <p:spPr>
          <a:xfrm>
            <a:off x="2530800" y="41112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GESTÃO DOS CUSTOS INVISIVE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CaixaDeTexto 4"/>
          <p:cNvSpPr/>
          <p:nvPr/>
        </p:nvSpPr>
        <p:spPr>
          <a:xfrm>
            <a:off x="81000" y="4840200"/>
            <a:ext cx="5759280" cy="398520"/>
          </a:xfrm>
          <a:prstGeom prst="rect">
            <a:avLst/>
          </a:prstGeom>
          <a:solidFill>
            <a:srgbClr val="296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  <a:ea typeface="Verdana"/>
              </a:rPr>
              <a:t>GESTÃO DE CUSTOS EMPRESARIAIS NO NEGÓCIO TRANSMISSÃO – GEC / Ana Rita Muss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Oval 8"/>
          <p:cNvSpPr/>
          <p:nvPr/>
        </p:nvSpPr>
        <p:spPr>
          <a:xfrm>
            <a:off x="781380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8" name="Picture 5" descr=""/>
          <p:cNvPicPr/>
          <p:nvPr/>
        </p:nvPicPr>
        <p:blipFill>
          <a:blip r:embed="rId3"/>
          <a:stretch/>
        </p:blipFill>
        <p:spPr>
          <a:xfrm>
            <a:off x="152280" y="133200"/>
            <a:ext cx="17557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533520" y="1004400"/>
            <a:ext cx="5478480" cy="33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 negócio transmissão na Copel sofreu na última década alguns reveses, que não permitiram registrar resultados de alto desempenho empresaria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isão da Copel Transmissã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novação do CC 060/2001 pelas regras da Medida Provisória 579/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Gestão dos custos é imprescindível para obter os resultados planej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titude dos gestor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Atenção e tratamento dos custos invisíveis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4"/>
          <p:cNvSpPr/>
          <p:nvPr/>
        </p:nvSpPr>
        <p:spPr>
          <a:xfrm>
            <a:off x="2771640" y="4111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PARA TERMINAR 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1" name="Imagem 7" descr=""/>
          <p:cNvPicPr/>
          <p:nvPr/>
        </p:nvPicPr>
        <p:blipFill>
          <a:blip r:embed="rId1"/>
          <a:stretch/>
        </p:blipFill>
        <p:spPr>
          <a:xfrm>
            <a:off x="6588000" y="1708200"/>
            <a:ext cx="1524240" cy="1411200"/>
          </a:xfrm>
          <a:prstGeom prst="rect">
            <a:avLst/>
          </a:prstGeom>
          <a:ln w="0">
            <a:noFill/>
          </a:ln>
        </p:spPr>
      </p:pic>
      <p:sp>
        <p:nvSpPr>
          <p:cNvPr id="822" name="CaixaDeTexto 4"/>
          <p:cNvSpPr/>
          <p:nvPr/>
        </p:nvSpPr>
        <p:spPr>
          <a:xfrm>
            <a:off x="81000" y="4840200"/>
            <a:ext cx="5759280" cy="398520"/>
          </a:xfrm>
          <a:prstGeom prst="rect">
            <a:avLst/>
          </a:prstGeom>
          <a:solidFill>
            <a:srgbClr val="296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  <a:ea typeface="Verdana"/>
              </a:rPr>
              <a:t>GESTÃO DE CUSTOS EMPRESARIAIS NO NEGÓCIO TRANSMISSÃO – GEC / Ana Rita Muss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Oval 8"/>
          <p:cNvSpPr/>
          <p:nvPr/>
        </p:nvSpPr>
        <p:spPr>
          <a:xfrm>
            <a:off x="810108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4" name="Picture 5" descr=""/>
          <p:cNvPicPr/>
          <p:nvPr/>
        </p:nvPicPr>
        <p:blipFill>
          <a:blip r:embed="rId2"/>
          <a:stretch/>
        </p:blipFill>
        <p:spPr>
          <a:xfrm>
            <a:off x="152280" y="133200"/>
            <a:ext cx="17557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Oval 17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6" name="Picture 2" descr="C:\Users\WallE\Desktop\Sem Título-4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19"/>
          <p:cNvSpPr/>
          <p:nvPr/>
        </p:nvSpPr>
        <p:spPr>
          <a:xfrm>
            <a:off x="1403280" y="1563840"/>
            <a:ext cx="37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Ana Rita Xavier Haj  Mus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Rectangle 22"/>
          <p:cNvSpPr/>
          <p:nvPr/>
        </p:nvSpPr>
        <p:spPr>
          <a:xfrm>
            <a:off x="1784520" y="279252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(41) 99169-21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Rectangle 25"/>
          <p:cNvSpPr/>
          <p:nvPr/>
        </p:nvSpPr>
        <p:spPr>
          <a:xfrm>
            <a:off x="1784520" y="3549600"/>
            <a:ext cx="39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armussi@yahoo.com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Rectangle 26"/>
          <p:cNvSpPr/>
          <p:nvPr/>
        </p:nvSpPr>
        <p:spPr>
          <a:xfrm>
            <a:off x="1784520" y="217800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(41) 3339-57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27"/>
          <p:cNvSpPr/>
          <p:nvPr/>
        </p:nvSpPr>
        <p:spPr>
          <a:xfrm>
            <a:off x="1784520" y="4017960"/>
            <a:ext cx="32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marcos.rezende@copel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2" name="Picture 3" descr="C:\Users\WallE\Desktop\e-mail-envelope.png"/>
          <p:cNvPicPr/>
          <p:nvPr/>
        </p:nvPicPr>
        <p:blipFill>
          <a:blip r:embed="rId2"/>
          <a:stretch/>
        </p:blipFill>
        <p:spPr>
          <a:xfrm>
            <a:off x="1403280" y="3478320"/>
            <a:ext cx="249480" cy="25056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4" descr="C:\Users\WallE\Desktop\whatsapp-logo.png"/>
          <p:cNvPicPr/>
          <p:nvPr/>
        </p:nvPicPr>
        <p:blipFill>
          <a:blip r:embed="rId3"/>
          <a:stretch/>
        </p:blipFill>
        <p:spPr>
          <a:xfrm>
            <a:off x="1403280" y="2849400"/>
            <a:ext cx="281160" cy="2811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5" descr="C:\Users\WallE\Desktop\phone-call.png"/>
          <p:cNvPicPr/>
          <p:nvPr/>
        </p:nvPicPr>
        <p:blipFill>
          <a:blip r:embed="rId4"/>
          <a:stretch/>
        </p:blipFill>
        <p:spPr>
          <a:xfrm>
            <a:off x="1403280" y="2225520"/>
            <a:ext cx="274680" cy="274680"/>
          </a:xfrm>
          <a:prstGeom prst="rect">
            <a:avLst/>
          </a:prstGeom>
          <a:ln w="0">
            <a:noFill/>
          </a:ln>
        </p:spPr>
      </p:pic>
      <p:sp>
        <p:nvSpPr>
          <p:cNvPr id="835" name="Straight Connector 32"/>
          <p:cNvSpPr/>
          <p:nvPr/>
        </p:nvSpPr>
        <p:spPr>
          <a:xfrm>
            <a:off x="-36360" y="1971720"/>
            <a:ext cx="45021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Picture 3" descr="C:\Users\WallE\Desktop\e-mail-envelope.png"/>
          <p:cNvPicPr/>
          <p:nvPr/>
        </p:nvPicPr>
        <p:blipFill>
          <a:blip r:embed="rId5"/>
          <a:stretch/>
        </p:blipFill>
        <p:spPr>
          <a:xfrm>
            <a:off x="1403280" y="4011480"/>
            <a:ext cx="24948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4"/>
          <p:cNvSpPr/>
          <p:nvPr/>
        </p:nvSpPr>
        <p:spPr>
          <a:xfrm>
            <a:off x="2783160" y="411120"/>
            <a:ext cx="32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CONHECENDO O ARTIGO 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Rectangle 5"/>
          <p:cNvSpPr/>
          <p:nvPr/>
        </p:nvSpPr>
        <p:spPr>
          <a:xfrm>
            <a:off x="6713640" y="1708200"/>
            <a:ext cx="2430360" cy="2016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12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Imagem 2" descr=""/>
          <p:cNvPicPr/>
          <p:nvPr/>
        </p:nvPicPr>
        <p:blipFill>
          <a:blip r:embed="rId1"/>
          <a:stretch/>
        </p:blipFill>
        <p:spPr>
          <a:xfrm>
            <a:off x="6713640" y="1779480"/>
            <a:ext cx="2406600" cy="180036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 txBox="1"/>
          <p:nvPr/>
        </p:nvSpPr>
        <p:spPr>
          <a:xfrm>
            <a:off x="468000" y="1203120"/>
            <a:ext cx="539892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atos relevantes na concessão transmissão Copel GeT nos últimos an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2010/2011-  GTs internos identificam a necessidade de redução dos custo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2012/2013 - nova realidade para o principal contrato de concessão do negócio transmissão, que teve sua receita reduzida em 58%, por lei fede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Gestão de Custos Visíveis e Invisíveis na Administra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CaixaDeTexto 3"/>
          <p:cNvSpPr/>
          <p:nvPr/>
        </p:nvSpPr>
        <p:spPr>
          <a:xfrm>
            <a:off x="81000" y="4840200"/>
            <a:ext cx="5759280" cy="398520"/>
          </a:xfrm>
          <a:prstGeom prst="rect">
            <a:avLst/>
          </a:prstGeom>
          <a:solidFill>
            <a:srgbClr val="296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  <a:ea typeface="Verdana"/>
              </a:rPr>
              <a:t>GESTÃO DE CUSTOS EMPRESARIAIS NO NEGÓCIO TRANSMISSÃO – GEC / Ana Rita Muss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Picture 5" descr=""/>
          <p:cNvPicPr/>
          <p:nvPr/>
        </p:nvPicPr>
        <p:blipFill>
          <a:blip r:embed="rId2"/>
          <a:stretch/>
        </p:blipFill>
        <p:spPr>
          <a:xfrm>
            <a:off x="152280" y="133200"/>
            <a:ext cx="17557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2404440" y="41112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FATOS RELEVANTES NA CONCESS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val 13"/>
          <p:cNvSpPr/>
          <p:nvPr/>
        </p:nvSpPr>
        <p:spPr>
          <a:xfrm>
            <a:off x="651672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6840" y="1200240"/>
            <a:ext cx="82184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2007 – cisão da Copel T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sequilíbrio entre custos fixos e recei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ubestações 230kV – “porteira fechada”   – sem remuneração adicional, sem contr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entro de Operação – coordenação de todo o sistema elétrico – sem remuneração, sem contr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2012 – MP 579/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dução da RAP do CC 060/2001 (- 58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dução da RAP Copel de R$ 370MM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R$192M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CaixaDeTexto 19"/>
          <p:cNvSpPr/>
          <p:nvPr/>
        </p:nvSpPr>
        <p:spPr>
          <a:xfrm>
            <a:off x="81000" y="4840200"/>
            <a:ext cx="5759280" cy="398520"/>
          </a:xfrm>
          <a:prstGeom prst="rect">
            <a:avLst/>
          </a:prstGeom>
          <a:solidFill>
            <a:srgbClr val="296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  <a:ea typeface="Verdana"/>
              </a:rPr>
              <a:t>GESTÃO DE CUSTOS EMPRESARIAIS NO NEGÓCIO TRANSMISSÃO – GEC / Ana Rita Muss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Picture 5" descr=""/>
          <p:cNvPicPr/>
          <p:nvPr/>
        </p:nvPicPr>
        <p:blipFill>
          <a:blip r:embed="rId1"/>
          <a:stretch/>
        </p:blipFill>
        <p:spPr>
          <a:xfrm>
            <a:off x="152280" y="133200"/>
            <a:ext cx="17557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5"/>
          <p:cNvSpPr/>
          <p:nvPr/>
        </p:nvSpPr>
        <p:spPr>
          <a:xfrm>
            <a:off x="6713640" y="1182600"/>
            <a:ext cx="2430360" cy="2016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4140360" y="1182600"/>
            <a:ext cx="2430360" cy="2016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4140360" y="3317760"/>
            <a:ext cx="5011560" cy="982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13"/>
          <p:cNvSpPr/>
          <p:nvPr/>
        </p:nvSpPr>
        <p:spPr>
          <a:xfrm>
            <a:off x="2417040" y="411120"/>
            <a:ext cx="46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CONTRATO DE GESTÃO DA DIRETO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Oval 19"/>
          <p:cNvSpPr/>
          <p:nvPr/>
        </p:nvSpPr>
        <p:spPr>
          <a:xfrm>
            <a:off x="665964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Imagem 4" descr=""/>
          <p:cNvPicPr/>
          <p:nvPr/>
        </p:nvPicPr>
        <p:blipFill>
          <a:blip r:embed="rId1"/>
          <a:stretch/>
        </p:blipFill>
        <p:spPr>
          <a:xfrm>
            <a:off x="4284720" y="1311120"/>
            <a:ext cx="2158920" cy="176544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68360" y="1863360"/>
            <a:ext cx="367200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dequação dos CUSTOS à RECEITA do contrato de Transmissão renovado com o Poder Concedente por mais 30 an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Imagem 12" descr=""/>
          <p:cNvPicPr/>
          <p:nvPr/>
        </p:nvPicPr>
        <p:blipFill>
          <a:blip r:embed="rId2"/>
          <a:stretch/>
        </p:blipFill>
        <p:spPr>
          <a:xfrm>
            <a:off x="6969240" y="1432080"/>
            <a:ext cx="1919160" cy="1523880"/>
          </a:xfrm>
          <a:prstGeom prst="rect">
            <a:avLst/>
          </a:prstGeom>
          <a:ln w="0">
            <a:noFill/>
          </a:ln>
        </p:spPr>
      </p:pic>
      <p:sp>
        <p:nvSpPr>
          <p:cNvPr id="720" name="Espaço Reservado para Conteúdo 2"/>
          <p:cNvSpPr/>
          <p:nvPr/>
        </p:nvSpPr>
        <p:spPr>
          <a:xfrm>
            <a:off x="3995640" y="3435480"/>
            <a:ext cx="504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999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dução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dos custos fixos (PMSO) da Transmissão entre 2013 e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CaixaDeTexto 10"/>
          <p:cNvSpPr/>
          <p:nvPr/>
        </p:nvSpPr>
        <p:spPr>
          <a:xfrm>
            <a:off x="81000" y="4840200"/>
            <a:ext cx="5759280" cy="398520"/>
          </a:xfrm>
          <a:prstGeom prst="rect">
            <a:avLst/>
          </a:prstGeom>
          <a:solidFill>
            <a:srgbClr val="296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  <a:ea typeface="Verdana"/>
              </a:rPr>
              <a:t>GESTÃO DE CUSTOS EMPRESARIAIS NO NEGÓCIO TRANSMISSÃO – GEC / Ana Rita Muss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Picture 5" descr=""/>
          <p:cNvPicPr/>
          <p:nvPr/>
        </p:nvPicPr>
        <p:blipFill>
          <a:blip r:embed="rId3"/>
          <a:stretch/>
        </p:blipFill>
        <p:spPr>
          <a:xfrm>
            <a:off x="152280" y="133200"/>
            <a:ext cx="17557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Oval 9"/>
          <p:cNvSpPr/>
          <p:nvPr/>
        </p:nvSpPr>
        <p:spPr>
          <a:xfrm>
            <a:off x="680400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13"/>
          <p:cNvSpPr/>
          <p:nvPr/>
        </p:nvSpPr>
        <p:spPr>
          <a:xfrm>
            <a:off x="2430360" y="41112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GESTÃO DOS CUSTOS VISIVEIS (PMS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358920" y="1131840"/>
          <a:ext cx="1368360" cy="183996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muneraçã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.Sociais – Ins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efíci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iculosidad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.Sociais - Fg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.Sociais - Féri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ras Extr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.Sociais - 13º Salár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D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breavis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pla Funçã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ros Gastos com Pesso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tificação para Instruto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einamen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êmios e Bonificaçõ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2087640" y="1131840"/>
          <a:ext cx="1584360" cy="22082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riais Divers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ícul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rial Elétric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tenção Civi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ches e Refeiçõ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edar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mpeza/Conservação Zelador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ramental/Equipament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comunicaçã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o e consumo Administrativ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bustíveis e Lubrificantes Equip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urança - EP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tenção Áreas Ver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urança Patrimon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p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entos Extern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) Créditos Impost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bustíveis e Lubrifican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959280" y="1131840"/>
          <a:ext cx="2171520" cy="3557520"/>
        </p:xfrm>
        <a:graphic>
          <a:graphicData uri="http://schemas.openxmlformats.org/drawingml/2006/table">
            <a:tbl>
              <a:tblPr/>
              <a:tblGrid>
                <a:gridCol w="2171520"/>
              </a:tblGrid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comunicaçã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ços de Terceiros Divers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ergia Elétrica - Consumo Própr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tenção Civi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urança Patrimon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ches e Refeiçõ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tençã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ultor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tenção Áreas Ver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mpeza/Conservação Zelador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ge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ícul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oio Administrativ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cações Lega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Água e Esgo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rograf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rídic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edage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imentaçã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ios e Telégraf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çada/Podas - Operaciona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p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einamen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ditor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drometr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as e Despesas com Importaçã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áf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12276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) Créditos Impost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6480000" y="1131840"/>
          <a:ext cx="2052720" cy="2008080"/>
        </p:xfrm>
        <a:graphic>
          <a:graphicData uri="http://schemas.openxmlformats.org/drawingml/2006/table">
            <a:tbl>
              <a:tblPr/>
              <a:tblGrid>
                <a:gridCol w="2052720"/>
              </a:tblGrid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ícul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231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u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66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ações e Contribuiçõ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as e Contribuiçõ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aganda e Publicidad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231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uguéis Imóve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but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dág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entos Extern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231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stas e Publicaçõ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éria Prima e Insumos p/ Prod.Energ.Elétr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enizaçõ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231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lsa Aux. Estagiár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éditos Incobráve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2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rendamentos e Alugué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</a:tbl>
          </a:graphicData>
        </a:graphic>
      </p:graphicFrame>
      <p:sp>
        <p:nvSpPr>
          <p:cNvPr id="729" name="CaixaDeTexto 8"/>
          <p:cNvSpPr/>
          <p:nvPr/>
        </p:nvSpPr>
        <p:spPr>
          <a:xfrm>
            <a:off x="6480000" y="3292560"/>
            <a:ext cx="115272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utr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CaixaDeTexto 10"/>
          <p:cNvSpPr/>
          <p:nvPr/>
        </p:nvSpPr>
        <p:spPr>
          <a:xfrm>
            <a:off x="1692360" y="4319640"/>
            <a:ext cx="2158920" cy="368280"/>
          </a:xfrm>
          <a:prstGeom prst="rect">
            <a:avLst/>
          </a:prstGeom>
          <a:solidFill>
            <a:srgbClr val="ccc1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erviços de Terceir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CaixaDeTexto 11"/>
          <p:cNvSpPr/>
          <p:nvPr/>
        </p:nvSpPr>
        <p:spPr>
          <a:xfrm>
            <a:off x="358920" y="3076560"/>
            <a:ext cx="1117440" cy="368280"/>
          </a:xfrm>
          <a:prstGeom prst="rect">
            <a:avLst/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ESSO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CaixaDeTexto 12"/>
          <p:cNvSpPr/>
          <p:nvPr/>
        </p:nvSpPr>
        <p:spPr>
          <a:xfrm>
            <a:off x="2087640" y="3435480"/>
            <a:ext cx="1152360" cy="36828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Estrela de 5 pontas 2"/>
          <p:cNvSpPr/>
          <p:nvPr/>
        </p:nvSpPr>
        <p:spPr>
          <a:xfrm>
            <a:off x="395280" y="3508200"/>
            <a:ext cx="216000" cy="184320"/>
          </a:xfrm>
          <a:custGeom>
            <a:avLst/>
            <a:gdLst/>
            <a:ahLst/>
            <a:rect l="l" t="t" r="r" b="b"/>
            <a:pathLst>
              <a:path w="215900" h="184150">
                <a:moveTo>
                  <a:pt x="0" y="70339"/>
                </a:moveTo>
                <a:lnTo>
                  <a:pt x="82467" y="70339"/>
                </a:lnTo>
                <a:lnTo>
                  <a:pt x="107950" y="0"/>
                </a:lnTo>
                <a:lnTo>
                  <a:pt x="133433" y="70339"/>
                </a:lnTo>
                <a:lnTo>
                  <a:pt x="215900" y="70339"/>
                </a:lnTo>
                <a:lnTo>
                  <a:pt x="149182" y="113810"/>
                </a:lnTo>
                <a:lnTo>
                  <a:pt x="174667" y="184150"/>
                </a:lnTo>
                <a:lnTo>
                  <a:pt x="107950" y="140677"/>
                </a:lnTo>
                <a:lnTo>
                  <a:pt x="41233" y="184150"/>
                </a:lnTo>
                <a:lnTo>
                  <a:pt x="66718" y="113810"/>
                </a:lnTo>
                <a:lnTo>
                  <a:pt x="0" y="7033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Estrela de 5 pontas 13"/>
          <p:cNvSpPr/>
          <p:nvPr/>
        </p:nvSpPr>
        <p:spPr>
          <a:xfrm>
            <a:off x="611280" y="3508200"/>
            <a:ext cx="215640" cy="184320"/>
          </a:xfrm>
          <a:custGeom>
            <a:avLst/>
            <a:gdLst/>
            <a:ahLst/>
            <a:rect l="l" t="t" r="r" b="b"/>
            <a:pathLst>
              <a:path w="215900" h="184150">
                <a:moveTo>
                  <a:pt x="0" y="70339"/>
                </a:moveTo>
                <a:lnTo>
                  <a:pt x="82467" y="70339"/>
                </a:lnTo>
                <a:lnTo>
                  <a:pt x="107950" y="0"/>
                </a:lnTo>
                <a:lnTo>
                  <a:pt x="133433" y="70339"/>
                </a:lnTo>
                <a:lnTo>
                  <a:pt x="215900" y="70339"/>
                </a:lnTo>
                <a:lnTo>
                  <a:pt x="149182" y="113810"/>
                </a:lnTo>
                <a:lnTo>
                  <a:pt x="174667" y="184150"/>
                </a:lnTo>
                <a:lnTo>
                  <a:pt x="107950" y="140677"/>
                </a:lnTo>
                <a:lnTo>
                  <a:pt x="41233" y="184150"/>
                </a:lnTo>
                <a:lnTo>
                  <a:pt x="66718" y="113810"/>
                </a:lnTo>
                <a:lnTo>
                  <a:pt x="0" y="7033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trela de 5 pontas 14"/>
          <p:cNvSpPr/>
          <p:nvPr/>
        </p:nvSpPr>
        <p:spPr>
          <a:xfrm>
            <a:off x="826920" y="3508200"/>
            <a:ext cx="216000" cy="184320"/>
          </a:xfrm>
          <a:custGeom>
            <a:avLst/>
            <a:gdLst/>
            <a:ahLst/>
            <a:rect l="l" t="t" r="r" b="b"/>
            <a:pathLst>
              <a:path w="215900" h="184150">
                <a:moveTo>
                  <a:pt x="0" y="70339"/>
                </a:moveTo>
                <a:lnTo>
                  <a:pt x="82467" y="70339"/>
                </a:lnTo>
                <a:lnTo>
                  <a:pt x="107950" y="0"/>
                </a:lnTo>
                <a:lnTo>
                  <a:pt x="133433" y="70339"/>
                </a:lnTo>
                <a:lnTo>
                  <a:pt x="215900" y="70339"/>
                </a:lnTo>
                <a:lnTo>
                  <a:pt x="149182" y="113810"/>
                </a:lnTo>
                <a:lnTo>
                  <a:pt x="174667" y="184150"/>
                </a:lnTo>
                <a:lnTo>
                  <a:pt x="107950" y="140677"/>
                </a:lnTo>
                <a:lnTo>
                  <a:pt x="41233" y="184150"/>
                </a:lnTo>
                <a:lnTo>
                  <a:pt x="66718" y="113810"/>
                </a:lnTo>
                <a:lnTo>
                  <a:pt x="0" y="7033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Estrela de 5 pontas 15"/>
          <p:cNvSpPr/>
          <p:nvPr/>
        </p:nvSpPr>
        <p:spPr>
          <a:xfrm>
            <a:off x="1042920" y="3508200"/>
            <a:ext cx="216000" cy="184320"/>
          </a:xfrm>
          <a:custGeom>
            <a:avLst/>
            <a:gdLst/>
            <a:ahLst/>
            <a:rect l="l" t="t" r="r" b="b"/>
            <a:pathLst>
              <a:path w="215900" h="184150">
                <a:moveTo>
                  <a:pt x="0" y="70339"/>
                </a:moveTo>
                <a:lnTo>
                  <a:pt x="82467" y="70339"/>
                </a:lnTo>
                <a:lnTo>
                  <a:pt x="107950" y="0"/>
                </a:lnTo>
                <a:lnTo>
                  <a:pt x="133433" y="70339"/>
                </a:lnTo>
                <a:lnTo>
                  <a:pt x="215900" y="70339"/>
                </a:lnTo>
                <a:lnTo>
                  <a:pt x="149182" y="113810"/>
                </a:lnTo>
                <a:lnTo>
                  <a:pt x="174667" y="184150"/>
                </a:lnTo>
                <a:lnTo>
                  <a:pt x="107950" y="140677"/>
                </a:lnTo>
                <a:lnTo>
                  <a:pt x="41233" y="184150"/>
                </a:lnTo>
                <a:lnTo>
                  <a:pt x="66718" y="113810"/>
                </a:lnTo>
                <a:lnTo>
                  <a:pt x="0" y="7033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Estrela de 5 pontas 16"/>
          <p:cNvSpPr/>
          <p:nvPr/>
        </p:nvSpPr>
        <p:spPr>
          <a:xfrm>
            <a:off x="1187280" y="4403880"/>
            <a:ext cx="216000" cy="183960"/>
          </a:xfrm>
          <a:custGeom>
            <a:avLst/>
            <a:gdLst/>
            <a:ahLst/>
            <a:rect l="l" t="t" r="r" b="b"/>
            <a:pathLst>
              <a:path w="215900" h="184150">
                <a:moveTo>
                  <a:pt x="0" y="70339"/>
                </a:moveTo>
                <a:lnTo>
                  <a:pt x="82467" y="70339"/>
                </a:lnTo>
                <a:lnTo>
                  <a:pt x="107950" y="0"/>
                </a:lnTo>
                <a:lnTo>
                  <a:pt x="133433" y="70339"/>
                </a:lnTo>
                <a:lnTo>
                  <a:pt x="215900" y="70339"/>
                </a:lnTo>
                <a:lnTo>
                  <a:pt x="149182" y="113810"/>
                </a:lnTo>
                <a:lnTo>
                  <a:pt x="174667" y="184150"/>
                </a:lnTo>
                <a:lnTo>
                  <a:pt x="107950" y="140677"/>
                </a:lnTo>
                <a:lnTo>
                  <a:pt x="41233" y="184150"/>
                </a:lnTo>
                <a:lnTo>
                  <a:pt x="66718" y="113810"/>
                </a:lnTo>
                <a:lnTo>
                  <a:pt x="0" y="7033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Estrela de 5 pontas 17"/>
          <p:cNvSpPr/>
          <p:nvPr/>
        </p:nvSpPr>
        <p:spPr>
          <a:xfrm>
            <a:off x="1403280" y="4403880"/>
            <a:ext cx="216000" cy="183960"/>
          </a:xfrm>
          <a:custGeom>
            <a:avLst/>
            <a:gdLst/>
            <a:ahLst/>
            <a:rect l="l" t="t" r="r" b="b"/>
            <a:pathLst>
              <a:path w="215900" h="184150">
                <a:moveTo>
                  <a:pt x="0" y="70339"/>
                </a:moveTo>
                <a:lnTo>
                  <a:pt x="82467" y="70339"/>
                </a:lnTo>
                <a:lnTo>
                  <a:pt x="107950" y="0"/>
                </a:lnTo>
                <a:lnTo>
                  <a:pt x="133433" y="70339"/>
                </a:lnTo>
                <a:lnTo>
                  <a:pt x="215900" y="70339"/>
                </a:lnTo>
                <a:lnTo>
                  <a:pt x="149182" y="113810"/>
                </a:lnTo>
                <a:lnTo>
                  <a:pt x="174667" y="184150"/>
                </a:lnTo>
                <a:lnTo>
                  <a:pt x="107950" y="140677"/>
                </a:lnTo>
                <a:lnTo>
                  <a:pt x="41233" y="184150"/>
                </a:lnTo>
                <a:lnTo>
                  <a:pt x="66718" y="113810"/>
                </a:lnTo>
                <a:lnTo>
                  <a:pt x="0" y="7033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CaixaDeTexto 18"/>
          <p:cNvSpPr/>
          <p:nvPr/>
        </p:nvSpPr>
        <p:spPr>
          <a:xfrm>
            <a:off x="81000" y="4840200"/>
            <a:ext cx="5759280" cy="398520"/>
          </a:xfrm>
          <a:prstGeom prst="rect">
            <a:avLst/>
          </a:prstGeom>
          <a:solidFill>
            <a:srgbClr val="296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  <a:ea typeface="Verdana"/>
              </a:rPr>
              <a:t>GESTÃO DE CUSTOS EMPRESARIAIS NO NEGÓCIO TRANSMISSÃO – GEC / Ana Rita Muss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0" name="Picture 5" descr=""/>
          <p:cNvPicPr/>
          <p:nvPr/>
        </p:nvPicPr>
        <p:blipFill>
          <a:blip r:embed="rId1"/>
          <a:stretch/>
        </p:blipFill>
        <p:spPr>
          <a:xfrm>
            <a:off x="152280" y="133200"/>
            <a:ext cx="17557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611280" y="1328760"/>
            <a:ext cx="3267000" cy="3079800"/>
          </a:xfrm>
          <a:prstGeom prst="rect">
            <a:avLst/>
          </a:prstGeom>
          <a:ln w="0">
            <a:noFill/>
          </a:ln>
        </p:spPr>
      </p:pic>
      <p:pic>
        <p:nvPicPr>
          <p:cNvPr id="742" name="Gráfico 11" descr=""/>
          <p:cNvPicPr/>
          <p:nvPr/>
        </p:nvPicPr>
        <p:blipFill>
          <a:blip r:embed="rId2"/>
          <a:stretch/>
        </p:blipFill>
        <p:spPr>
          <a:xfrm>
            <a:off x="5889600" y="1023840"/>
            <a:ext cx="2844720" cy="2158920"/>
          </a:xfrm>
          <a:prstGeom prst="rect">
            <a:avLst/>
          </a:prstGeom>
          <a:ln w="0">
            <a:noFill/>
          </a:ln>
        </p:spPr>
      </p:pic>
      <p:pic>
        <p:nvPicPr>
          <p:cNvPr id="743" name="Gráfico 12" descr=""/>
          <p:cNvPicPr/>
          <p:nvPr/>
        </p:nvPicPr>
        <p:blipFill>
          <a:blip r:embed="rId3"/>
          <a:stretch/>
        </p:blipFill>
        <p:spPr>
          <a:xfrm>
            <a:off x="5889600" y="2860560"/>
            <a:ext cx="2825640" cy="2159280"/>
          </a:xfrm>
          <a:prstGeom prst="rect">
            <a:avLst/>
          </a:prstGeom>
          <a:ln w="0">
            <a:noFill/>
          </a:ln>
        </p:spPr>
      </p:pic>
      <p:cxnSp>
        <p:nvCxnSpPr>
          <p:cNvPr id="744" name="Conector angulado 7"/>
          <p:cNvCxnSpPr/>
          <p:nvPr/>
        </p:nvCxnSpPr>
        <p:spPr>
          <a:xfrm flipV="1">
            <a:off x="4140360" y="2194920"/>
            <a:ext cx="1800720" cy="2545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5" name="Conector angulado 14"/>
          <p:cNvCxnSpPr/>
          <p:nvPr/>
        </p:nvCxnSpPr>
        <p:spPr>
          <a:xfrm>
            <a:off x="4140360" y="3435480"/>
            <a:ext cx="1800720" cy="59760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6" name="Chave direita 15"/>
          <p:cNvSpPr/>
          <p:nvPr/>
        </p:nvSpPr>
        <p:spPr>
          <a:xfrm>
            <a:off x="3878280" y="2030400"/>
            <a:ext cx="117360" cy="838080"/>
          </a:xfrm>
          <a:custGeom>
            <a:avLst/>
            <a:gdLst>
              <a:gd name="textAreaLeft" fmla="*/ 0 w 117360"/>
              <a:gd name="textAreaRight" fmla="*/ 42480 w 117360"/>
              <a:gd name="textAreaTop" fmla="*/ 2880 h 838080"/>
              <a:gd name="textAreaBottom" fmla="*/ 8352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6"/>
                  <a:pt x="10800" y="252"/>
                </a:cubicBezTo>
                <a:lnTo>
                  <a:pt x="10800" y="10548"/>
                </a:lnTo>
                <a:cubicBezTo>
                  <a:pt x="10800" y="10674"/>
                  <a:pt x="16200" y="10800"/>
                  <a:pt x="21600" y="10800"/>
                </a:cubicBezTo>
                <a:cubicBezTo>
                  <a:pt x="16200" y="10800"/>
                  <a:pt x="10800" y="10926"/>
                  <a:pt x="10800" y="11052"/>
                </a:cubicBezTo>
                <a:lnTo>
                  <a:pt x="10800" y="21348"/>
                </a:lnTo>
                <a:cubicBezTo>
                  <a:pt x="10800" y="2147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Chave direita 17"/>
          <p:cNvSpPr/>
          <p:nvPr/>
        </p:nvSpPr>
        <p:spPr>
          <a:xfrm>
            <a:off x="3878280" y="3057480"/>
            <a:ext cx="117360" cy="755640"/>
          </a:xfrm>
          <a:custGeom>
            <a:avLst/>
            <a:gdLst>
              <a:gd name="textAreaLeft" fmla="*/ 0 w 117360"/>
              <a:gd name="textAreaRight" fmla="*/ 42480 w 117360"/>
              <a:gd name="textAreaTop" fmla="*/ 2880 h 755640"/>
              <a:gd name="textAreaBottom" fmla="*/ 75276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"/>
                  <a:pt x="10800" y="280"/>
                </a:cubicBezTo>
                <a:lnTo>
                  <a:pt x="10800" y="10520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0"/>
                  <a:pt x="10800" y="11080"/>
                </a:cubicBezTo>
                <a:lnTo>
                  <a:pt x="10800" y="21320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8" name="Grupo 20"/>
          <p:cNvGrpSpPr/>
          <p:nvPr/>
        </p:nvGrpSpPr>
        <p:grpSpPr>
          <a:xfrm>
            <a:off x="585720" y="2268360"/>
            <a:ext cx="169920" cy="627120"/>
            <a:chOff x="585720" y="2268360"/>
            <a:chExt cx="169920" cy="627120"/>
          </a:xfrm>
        </p:grpSpPr>
        <p:sp>
          <p:nvSpPr>
            <p:cNvPr id="749" name="Retângulo 19"/>
            <p:cNvSpPr/>
            <p:nvPr/>
          </p:nvSpPr>
          <p:spPr>
            <a:xfrm>
              <a:off x="585720" y="2268360"/>
              <a:ext cx="169920" cy="127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Retângulo 23"/>
            <p:cNvSpPr/>
            <p:nvPr/>
          </p:nvSpPr>
          <p:spPr>
            <a:xfrm>
              <a:off x="585720" y="2444400"/>
              <a:ext cx="169920" cy="127080"/>
            </a:xfrm>
            <a:prstGeom prst="rect">
              <a:avLst/>
            </a:pr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Retângulo 24"/>
            <p:cNvSpPr/>
            <p:nvPr/>
          </p:nvSpPr>
          <p:spPr>
            <a:xfrm>
              <a:off x="585720" y="2606400"/>
              <a:ext cx="169920" cy="127080"/>
            </a:xfrm>
            <a:prstGeom prst="rect">
              <a:avLst/>
            </a:prstGeom>
            <a:solidFill>
              <a:srgbClr val="77933c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Retângulo 25"/>
            <p:cNvSpPr/>
            <p:nvPr/>
          </p:nvSpPr>
          <p:spPr>
            <a:xfrm>
              <a:off x="585720" y="2768400"/>
              <a:ext cx="169920" cy="127080"/>
            </a:xfrm>
            <a:prstGeom prst="rect">
              <a:avLst/>
            </a:prstGeom>
            <a:solidFill>
              <a:srgbClr val="604a7b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Grupo 27"/>
          <p:cNvGrpSpPr/>
          <p:nvPr/>
        </p:nvGrpSpPr>
        <p:grpSpPr>
          <a:xfrm>
            <a:off x="585720" y="3240000"/>
            <a:ext cx="169920" cy="627120"/>
            <a:chOff x="585720" y="3240000"/>
            <a:chExt cx="169920" cy="627120"/>
          </a:xfrm>
        </p:grpSpPr>
        <p:sp>
          <p:nvSpPr>
            <p:cNvPr id="754" name="Retângulo 28"/>
            <p:cNvSpPr/>
            <p:nvPr/>
          </p:nvSpPr>
          <p:spPr>
            <a:xfrm>
              <a:off x="585720" y="3240000"/>
              <a:ext cx="169920" cy="127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Retângulo 29"/>
            <p:cNvSpPr/>
            <p:nvPr/>
          </p:nvSpPr>
          <p:spPr>
            <a:xfrm>
              <a:off x="585720" y="3416040"/>
              <a:ext cx="169920" cy="127080"/>
            </a:xfrm>
            <a:prstGeom prst="rect">
              <a:avLst/>
            </a:pr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Retângulo 30"/>
            <p:cNvSpPr/>
            <p:nvPr/>
          </p:nvSpPr>
          <p:spPr>
            <a:xfrm>
              <a:off x="585720" y="3578040"/>
              <a:ext cx="169920" cy="127080"/>
            </a:xfrm>
            <a:prstGeom prst="rect">
              <a:avLst/>
            </a:prstGeom>
            <a:solidFill>
              <a:srgbClr val="77933c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Retângulo 31"/>
            <p:cNvSpPr/>
            <p:nvPr/>
          </p:nvSpPr>
          <p:spPr>
            <a:xfrm>
              <a:off x="585720" y="3740040"/>
              <a:ext cx="169920" cy="127080"/>
            </a:xfrm>
            <a:prstGeom prst="rect">
              <a:avLst/>
            </a:prstGeom>
            <a:solidFill>
              <a:srgbClr val="604a7b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8" name="CaixaDeTexto 21"/>
          <p:cNvSpPr/>
          <p:nvPr/>
        </p:nvSpPr>
        <p:spPr>
          <a:xfrm>
            <a:off x="3419640" y="885960"/>
            <a:ext cx="26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MSO TRA -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Rectangle 13"/>
          <p:cNvSpPr/>
          <p:nvPr/>
        </p:nvSpPr>
        <p:spPr>
          <a:xfrm>
            <a:off x="2430360" y="41112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GESTÃO DOS CUSTOS VISIVEIS (PMS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CaixaDeTexto 20"/>
          <p:cNvSpPr/>
          <p:nvPr/>
        </p:nvSpPr>
        <p:spPr>
          <a:xfrm>
            <a:off x="81000" y="4840200"/>
            <a:ext cx="5759280" cy="398520"/>
          </a:xfrm>
          <a:prstGeom prst="rect">
            <a:avLst/>
          </a:prstGeom>
          <a:solidFill>
            <a:srgbClr val="296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  <a:ea typeface="Verdana"/>
              </a:rPr>
              <a:t>GESTÃO DE CUSTOS EMPRESARIAIS NO NEGÓCIO TRANSMISSÃO – GEC / Ana Rita Muss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Oval 9"/>
          <p:cNvSpPr/>
          <p:nvPr/>
        </p:nvSpPr>
        <p:spPr>
          <a:xfrm>
            <a:off x="694836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Picture 5" descr=""/>
          <p:cNvPicPr/>
          <p:nvPr/>
        </p:nvPicPr>
        <p:blipFill>
          <a:blip r:embed="rId4"/>
          <a:stretch/>
        </p:blipFill>
        <p:spPr>
          <a:xfrm>
            <a:off x="152280" y="133200"/>
            <a:ext cx="17557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457200" y="1200240"/>
            <a:ext cx="5554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ções para controle dos custos PM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SD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visão de contratos de terceir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Vigilância Patrimon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oda e Roç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Telecomunicaçõ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Gere e Traga Ide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timização de proces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ção de “ralos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Uso de novas tecnolog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4" name="Espaço Reservado para Conteúdo 5" descr=""/>
          <p:cNvPicPr/>
          <p:nvPr/>
        </p:nvPicPr>
        <p:blipFill>
          <a:blip r:embed="rId1"/>
          <a:stretch/>
        </p:blipFill>
        <p:spPr>
          <a:xfrm>
            <a:off x="6213600" y="2171880"/>
            <a:ext cx="2174760" cy="133632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13"/>
          <p:cNvSpPr/>
          <p:nvPr/>
        </p:nvSpPr>
        <p:spPr>
          <a:xfrm>
            <a:off x="2430360" y="41112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GESTÃO DOS CUSTOS VISIVEIS (PMS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CaixaDeTexto 4"/>
          <p:cNvSpPr/>
          <p:nvPr/>
        </p:nvSpPr>
        <p:spPr>
          <a:xfrm>
            <a:off x="81000" y="4840200"/>
            <a:ext cx="5759280" cy="398520"/>
          </a:xfrm>
          <a:prstGeom prst="rect">
            <a:avLst/>
          </a:prstGeom>
          <a:solidFill>
            <a:srgbClr val="296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  <a:ea typeface="Verdana"/>
              </a:rPr>
              <a:t>GESTÃO DE CUSTOS EMPRESARIAIS NO NEGÓCIO TRANSMISSÃO – GEC / Ana Rita Muss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Oval 9"/>
          <p:cNvSpPr/>
          <p:nvPr/>
        </p:nvSpPr>
        <p:spPr>
          <a:xfrm>
            <a:off x="709308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8" name="Picture 5" descr=""/>
          <p:cNvPicPr/>
          <p:nvPr/>
        </p:nvPicPr>
        <p:blipFill>
          <a:blip r:embed="rId2"/>
          <a:stretch/>
        </p:blipFill>
        <p:spPr>
          <a:xfrm>
            <a:off x="152280" y="133200"/>
            <a:ext cx="17557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Oval 8"/>
          <p:cNvSpPr/>
          <p:nvPr/>
        </p:nvSpPr>
        <p:spPr>
          <a:xfrm>
            <a:off x="723744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1187280" y="1601640"/>
          <a:ext cx="7018560" cy="2194200"/>
        </p:xfrm>
        <a:graphic>
          <a:graphicData uri="http://schemas.openxmlformats.org/drawingml/2006/table">
            <a:tbl>
              <a:tblPr/>
              <a:tblGrid>
                <a:gridCol w="3991320"/>
                <a:gridCol w="1412640"/>
                <a:gridCol w="1614600"/>
              </a:tblGrid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N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     481.291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5.775.49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405.419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4.865.039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 gridSpan="3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ferença </a:t>
                      </a:r>
                      <a:br>
                        <a:rPr sz="1800"/>
                      </a:b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Prop-G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75.871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910.453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71" name=""/>
          <p:cNvSpPr txBox="1"/>
          <p:nvPr/>
        </p:nvSpPr>
        <p:spPr>
          <a:xfrm>
            <a:off x="1241280" y="1144080"/>
            <a:ext cx="67154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xemplo: Gestão de custos “S” – Segurança Patrimon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13"/>
          <p:cNvSpPr/>
          <p:nvPr/>
        </p:nvSpPr>
        <p:spPr>
          <a:xfrm>
            <a:off x="2430360" y="41112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GESTÃO DOS CUSTOS VISIVEIS (PM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  <a:ea typeface="Tahoma"/>
              </a:rPr>
              <a:t>S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CaixaDeTexto 5"/>
          <p:cNvSpPr/>
          <p:nvPr/>
        </p:nvSpPr>
        <p:spPr>
          <a:xfrm>
            <a:off x="81000" y="4840200"/>
            <a:ext cx="5759280" cy="398520"/>
          </a:xfrm>
          <a:prstGeom prst="rect">
            <a:avLst/>
          </a:prstGeom>
          <a:solidFill>
            <a:srgbClr val="296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  <a:ea typeface="Verdana"/>
              </a:rPr>
              <a:t>GESTÃO DE CUSTOS EMPRESARIAIS NO NEGÓCIO TRANSMISSÃO – GEC / Ana Rita Muss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4" name="Picture 5" descr=""/>
          <p:cNvPicPr/>
          <p:nvPr/>
        </p:nvPicPr>
        <p:blipFill>
          <a:blip r:embed="rId1"/>
          <a:stretch/>
        </p:blipFill>
        <p:spPr>
          <a:xfrm>
            <a:off x="152280" y="133200"/>
            <a:ext cx="17557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CaixaDeTexto 6"/>
          <p:cNvSpPr/>
          <p:nvPr/>
        </p:nvSpPr>
        <p:spPr>
          <a:xfrm>
            <a:off x="1187280" y="11127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MSO  TRA – Evolução desde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6" name="Gráfico 11" descr=""/>
          <p:cNvPicPr/>
          <p:nvPr/>
        </p:nvPicPr>
        <p:blipFill>
          <a:blip r:embed="rId1"/>
          <a:stretch/>
        </p:blipFill>
        <p:spPr>
          <a:xfrm>
            <a:off x="560520" y="1495440"/>
            <a:ext cx="6559560" cy="3133800"/>
          </a:xfrm>
          <a:prstGeom prst="rect">
            <a:avLst/>
          </a:prstGeom>
          <a:ln w="0">
            <a:noFill/>
          </a:ln>
        </p:spPr>
      </p:pic>
      <p:sp>
        <p:nvSpPr>
          <p:cNvPr id="777" name="Seta para baixo 7"/>
          <p:cNvSpPr/>
          <p:nvPr/>
        </p:nvSpPr>
        <p:spPr>
          <a:xfrm>
            <a:off x="7451640" y="2355840"/>
            <a:ext cx="505080" cy="863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8" name="Picture 2" descr=""/>
          <p:cNvPicPr/>
          <p:nvPr/>
        </p:nvPicPr>
        <p:blipFill>
          <a:blip r:embed="rId2"/>
          <a:stretch/>
        </p:blipFill>
        <p:spPr>
          <a:xfrm>
            <a:off x="2367000" y="2085840"/>
            <a:ext cx="260280" cy="19548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" descr=""/>
          <p:cNvPicPr/>
          <p:nvPr/>
        </p:nvPicPr>
        <p:blipFill>
          <a:blip r:embed="rId3"/>
          <a:stretch/>
        </p:blipFill>
        <p:spPr>
          <a:xfrm>
            <a:off x="3492360" y="2311560"/>
            <a:ext cx="260640" cy="19656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2" descr=""/>
          <p:cNvPicPr/>
          <p:nvPr/>
        </p:nvPicPr>
        <p:blipFill>
          <a:blip r:embed="rId4"/>
          <a:stretch/>
        </p:blipFill>
        <p:spPr>
          <a:xfrm>
            <a:off x="4643280" y="2409840"/>
            <a:ext cx="262080" cy="1951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" descr=""/>
          <p:cNvPicPr/>
          <p:nvPr/>
        </p:nvPicPr>
        <p:blipFill>
          <a:blip r:embed="rId5"/>
          <a:stretch/>
        </p:blipFill>
        <p:spPr>
          <a:xfrm>
            <a:off x="5751360" y="2646360"/>
            <a:ext cx="260640" cy="1951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" descr=""/>
          <p:cNvPicPr/>
          <p:nvPr/>
        </p:nvPicPr>
        <p:blipFill>
          <a:blip r:embed="rId6"/>
          <a:stretch/>
        </p:blipFill>
        <p:spPr>
          <a:xfrm>
            <a:off x="2700360" y="3078000"/>
            <a:ext cx="260280" cy="19548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" descr=""/>
          <p:cNvPicPr/>
          <p:nvPr/>
        </p:nvPicPr>
        <p:blipFill>
          <a:blip r:embed="rId7"/>
          <a:stretch/>
        </p:blipFill>
        <p:spPr>
          <a:xfrm>
            <a:off x="3807000" y="3186000"/>
            <a:ext cx="260280" cy="1954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2" descr=""/>
          <p:cNvPicPr/>
          <p:nvPr/>
        </p:nvPicPr>
        <p:blipFill>
          <a:blip r:embed="rId8"/>
          <a:stretch/>
        </p:blipFill>
        <p:spPr>
          <a:xfrm>
            <a:off x="4959360" y="3232080"/>
            <a:ext cx="260280" cy="1954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4" descr=""/>
          <p:cNvPicPr/>
          <p:nvPr/>
        </p:nvPicPr>
        <p:blipFill>
          <a:blip r:embed="rId9"/>
          <a:stretch/>
        </p:blipFill>
        <p:spPr>
          <a:xfrm>
            <a:off x="6051600" y="3144960"/>
            <a:ext cx="342720" cy="25704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13"/>
          <p:cNvSpPr/>
          <p:nvPr/>
        </p:nvSpPr>
        <p:spPr>
          <a:xfrm>
            <a:off x="2430360" y="41112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GESTÃO DOS CUSTOS VISIVEIS (PMS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CaixaDeTexto 13"/>
          <p:cNvSpPr/>
          <p:nvPr/>
        </p:nvSpPr>
        <p:spPr>
          <a:xfrm>
            <a:off x="81000" y="4840200"/>
            <a:ext cx="5759280" cy="398520"/>
          </a:xfrm>
          <a:prstGeom prst="rect">
            <a:avLst/>
          </a:prstGeom>
          <a:solidFill>
            <a:srgbClr val="296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  <a:ea typeface="Verdana"/>
              </a:rPr>
              <a:t>GESTÃO DE CUSTOS EMPRESARIAIS NO NEGÓCIO TRANSMISSÃO – GEC / Ana Rita Muss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Oval 8"/>
          <p:cNvSpPr/>
          <p:nvPr/>
        </p:nvSpPr>
        <p:spPr>
          <a:xfrm>
            <a:off x="738036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9" name="Picture 5" descr=""/>
          <p:cNvPicPr/>
          <p:nvPr/>
        </p:nvPicPr>
        <p:blipFill>
          <a:blip r:embed="rId10"/>
          <a:stretch/>
        </p:blipFill>
        <p:spPr>
          <a:xfrm>
            <a:off x="152280" y="133200"/>
            <a:ext cx="17557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9T11:02:55Z</dcterms:created>
  <dc:creator>WallE</dc:creator>
  <dc:description/>
  <dc:language>en-US</dc:language>
  <cp:lastModifiedBy>Microsoft</cp:lastModifiedBy>
  <cp:lastPrinted>2017-10-09T13:27:05Z</cp:lastPrinted>
  <dcterms:modified xsi:type="dcterms:W3CDTF">2017-10-09T23:22:22Z</dcterms:modified>
  <cp:revision>42</cp:revision>
  <dc:subject/>
  <dc:title>PowerPoint Presentation</dc:title>
</cp:coreProperties>
</file>