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1.png" ContentType="image/png"/>
  <Override PartName="/ppt/media/image4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D6BF3-5FD6-4F10-A737-65CD2358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D172C-2E42-4413-BB2B-2D270E7B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CF027-C828-435F-A00B-341BEF0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26E0C-31C8-47D7-A430-4D1A026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F8C9D-5FD3-4AE0-B99F-F44843D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86132-678F-45BD-A2DF-A742DBC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59E23-3209-4E0F-9D07-351A0EA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239D3-93AB-4D8F-B62F-3B4F29DE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F73D-30D6-4AF0-8570-B122BDF1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21D50-B3BD-4B72-B152-B8B71594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EB5E4-9DB4-4F1A-B4B6-AA30E790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F96E-F698-4384-A184-6592DA79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B3780-78FD-4DA9-B238-08782D8E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144C8-A03B-435E-AD09-D177618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AE1E0-89E2-4C58-A865-6C90488E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4EA56-1607-4678-B09F-E8659E64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1660-DF7C-4548-B04C-D2A19D5B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C27B2-ABDD-4CD3-94E4-091A187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93BD1-FEDC-40CF-A795-0E72696F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79AC3-24AB-4939-8C52-1090848E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1C5C-8F9A-46B6-A21F-C0D44A0D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18EA5-B7F3-480C-B0D9-5AE73336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2E717-11D9-4ACA-9808-C6C8A1F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B5102-5064-4CD9-90C9-F8E03DE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60D0A-485F-4ED6-8472-A49B667E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188A9-F6BA-4977-A842-1C66CAAD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A1FF1-171A-4859-8CD9-4F585AAF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2033E-A369-49A5-B6EC-75529813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EBBEF-528F-4DF9-A1FE-CA4B3F6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DD65E-810D-4AF6-8905-FA87C25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D12-2F28-41E0-98ED-9F2FBCB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4032C-C0AA-484B-B42C-3CA0277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C973-98A5-4742-A7E9-63EC030A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9890D-4A9C-4397-A4A9-260FCABA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DB20-FA69-4779-A698-0A567DB3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3A1E2-C769-4298-AE8C-DFAD7CA4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4105A-8BEF-4B95-A8AD-B17813A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FBBA-7B5B-4EF1-93E9-F2796D2A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CFCA9-B135-4D83-A05E-360C0E59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53391-3865-4C43-BF40-93BD77D3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D9155-8B7A-4BCA-94A2-DCD916D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C0A-4F2D-4580-B814-51CB4005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40F43-1F75-43B6-884B-E4C42F4C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DD78-9A81-4F5F-AB6D-624B864C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7A898-3B2C-4BFB-8C13-C178EB46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4F5BF-37C5-4649-A453-482D088D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46D77-8482-4714-A0DE-817A0327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40D-794B-4EE0-AE72-84F6F784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842-CF4F-481F-9C66-070A850F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003-5584-4BA5-904A-B890E65E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316-3F08-4876-8EB7-41495A09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8FA-42D5-4133-928B-45542F7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DB8-5435-420D-9A7B-097241D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5F3-B48B-4D06-9BE7-3E70EF6C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FF4-EA0C-4EFC-B906-9015093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D4C-3655-4AFD-9379-979BD674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7D8-08BC-4F23-878A-A4B605B8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A919-1272-48CF-A778-AE9F730A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4CA1-2F72-4C74-B8CA-A0CB52E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494B-4F66-434A-BCBA-ED24DB16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623A-C5F5-41A2-B937-A70380D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3169-9A26-4F7A-8056-F1942E8A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99D4-A31A-4421-8667-72914B0B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1B3F-9F0B-4B8D-8BF5-A239096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EA7A-4A0B-445C-B4C0-6617609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E80F-490C-4116-B081-9FB55949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B31B-85F0-49C1-9E00-0E422724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77FD-2290-4774-8B22-C2D07FC2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1E88-1C44-456F-810C-04E2DE07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9D83-7347-4D56-84C3-BA006D34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28A2-1ADF-441C-8C41-577FCF5D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A05C-C2AD-45B4-BAEA-AC63D2AA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4E1F-DEFB-4A00-9FF5-EBEA856A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A800-E6CF-4399-ACD7-91301168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99FE-D300-43E3-A82A-1FDE75E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803F-8DFD-41D7-9C4B-F30EE82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8EDB-C0E9-4438-837F-96EB11C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419C-2D91-4EAD-B821-0572D02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D905-5140-483C-B244-B34FC61E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BCB4-7F59-44CC-8067-09B5D339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3FF6-76AF-4BCD-918B-3D84B42C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3AC2-24F1-45FD-A193-66435C46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880C-D095-4FA4-86D6-E4EED9CE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2009-D86C-4983-81DD-838C713F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42E7-3806-4B4C-A7F3-6ED37EF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EB5D-B0B1-44EC-990C-2F8E55A7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67D1-7AF2-4FFD-9232-3D8FA437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10B9-B69A-42F9-9496-C10BCE6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4515-B3FC-4A6D-8E50-0C1275FC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74B4-9035-4DAD-992F-AFB013EB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0C2B-E33B-4931-95B8-5A2A8A69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0D53-72DD-45AB-B7E6-6AF886A7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7F7D-6CB2-446C-8EC8-C0DEAE02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F273-CDFC-4547-9015-B0430EC1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4CD4-A910-49EB-ABB5-D89F6DFB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E5B2-05C1-44E4-A760-BF6169DA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1C83-358D-4D6F-AB53-1D1D089C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241A-A196-430E-9C4F-677B5F9E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CEA5-13B6-4F68-A7B0-E4C3F1FA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554E7-8326-49DB-B175-4BB0128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22CF2-9E08-4BFC-B13D-5207A57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04819-20BD-4284-AABF-F08B0FE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05EE-9FC7-43E6-8850-05FDDC50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2F39-88B3-4274-AD73-907FA3B0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6FF6-CD1C-436F-8168-50B02050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6294D-66FD-4918-901A-EB29A51F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469A9-BFFD-45CF-A32B-A88FEF0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44CD2-4D85-43BF-94B2-3CD259B4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950D-22A2-48AA-A87F-DCD45C21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2D6F-D070-469F-82C4-24B3A57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002C-9E62-4CF1-801E-CC516508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206D3-7394-45A5-92FA-2A3A0863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09D1-AADE-4ED9-AE1C-E56D829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2FAF-3E3D-4E32-97E0-27CD2B5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5C651-9914-44AC-A3CC-3ECD3BDC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7C25B-442F-40E6-B114-960573AE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AFEE-E488-4CD7-B108-086CED25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2ECF-016E-40F7-A0B6-457D44AD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2354F-2631-434C-817F-53EFA9E0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F695-0366-4D93-8A7D-2F9DF4AA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B81E-A4A5-4309-BDF5-520C9D8F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FC26-FC5D-4390-B185-6BF5CBF7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1C08-D2B0-4A35-946E-AE1A6A3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C246F-0407-4ABD-ACC0-369D8A8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BD2A-B45F-48FC-BC4D-60C3F1F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7EC6-8B53-424A-AB27-0FDCB05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DFCC1-0057-47AD-8A1F-34A769C3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2BF46-AFB7-4015-863F-EAAD8F31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778F5-C765-438D-9772-45C950F6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8921-F7F4-490C-BAAB-6AE7D80B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34A5E-62BE-495F-9FEE-050EF65A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882BD-60CB-4014-9546-DFC6A495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1CC-FDFE-4DC5-AACE-D2A16C61D57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5350-C7BD-4BC6-AA7C-CFD7B597714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5FCE-E24A-4650-A59A-802330625C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A1E-73F4-4308-8F95-049FA6F94F8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CBF9-29BC-4B65-8EE5-88F399C7EC6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B19C-8047-46DB-B977-8C64AB1FE8E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9C8-6E1E-4DF2-AA8B-17F940BEF60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F414-186C-4766-9CBE-219960BE582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3FD7-F629-467A-8D3B-4C1F1CFB41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AAF5-3881-4814-9094-596D760B09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\\ZEUS\ArquivosWX\Clientes\SNPTEE 2017\SNPTEE\Arquivos\Sem Título-3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8"/>
          <p:cNvSpPr/>
          <p:nvPr/>
        </p:nvSpPr>
        <p:spPr>
          <a:xfrm>
            <a:off x="108000" y="4815000"/>
            <a:ext cx="81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 </a:t>
            </a: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Desenvolvimento de um Sistema ...- 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Verdana"/>
              </a:rPr>
              <a:t>GEC/ Garcia, K. et 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traight Connector 11"/>
          <p:cNvSpPr/>
          <p:nvPr/>
        </p:nvSpPr>
        <p:spPr>
          <a:xfrm>
            <a:off x="2843280" y="843120"/>
            <a:ext cx="31687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Oval 10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15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Oval 16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17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18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19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20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21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22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23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24"/>
          <p:cNvSpPr/>
          <p:nvPr/>
        </p:nvSpPr>
        <p:spPr>
          <a:xfrm>
            <a:off x="76438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25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26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27"/>
          <p:cNvSpPr/>
          <p:nvPr/>
        </p:nvSpPr>
        <p:spPr>
          <a:xfrm>
            <a:off x="8067600" y="4948200"/>
            <a:ext cx="7164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28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8f8f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Imagem 4" descr="Eletrobras Cepel horiz gradiente"/>
          <p:cNvPicPr/>
          <p:nvPr/>
        </p:nvPicPr>
        <p:blipFill>
          <a:blip r:embed="rId3"/>
          <a:stretch/>
        </p:blipFill>
        <p:spPr>
          <a:xfrm>
            <a:off x="324000" y="195120"/>
            <a:ext cx="1152360" cy="50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9E2-728D-448E-BBF2-366F6D8EAFF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dproject.net/index.asp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sustainability-indexes.com/default.html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ftse.com/index.jsp" TargetMode="External"/><Relationship Id="rId6" Type="http://schemas.openxmlformats.org/officeDocument/2006/relationships/image" Target="../media/image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hyperlink" Target="http://www.globalreporting.org/" TargetMode="External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ZEUS\ArquivosWX\Clientes\SNPTEE 2017\SNPTEE\Arquivos\Sem Título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96" name="Oval 13"/>
          <p:cNvSpPr/>
          <p:nvPr/>
        </p:nvSpPr>
        <p:spPr>
          <a:xfrm>
            <a:off x="622764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179280" y="34354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GEC/ </a:t>
            </a:r>
            <a:r>
              <a:rPr b="1" lang="pt-BR" sz="1800" spc="-1" strike="noStrike" u="sng">
                <a:solidFill>
                  <a:srgbClr val="7f7f7f"/>
                </a:solidFill>
                <a:uFillTx/>
                <a:latin typeface="Arial"/>
                <a:ea typeface="Arial"/>
              </a:rPr>
              <a:t>Katia C. Garcia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, André Quadros, Luciana Paz, Fábio Lares, Denise Matos, Amauri Domicio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250920" y="843120"/>
            <a:ext cx="324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f7f7f"/>
                </a:solidFill>
                <a:latin typeface="Arial"/>
                <a:ea typeface="Verdana"/>
              </a:rPr>
              <a:t>DESENVOLVIMENTO DE UM SISTEMA COMPUTACIONAL DE COLETA DE INDICADORES DE DESEMPENHO DA SUSTENTABILIDADE EMPRESA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traight Connector 7"/>
          <p:cNvSpPr/>
          <p:nvPr/>
        </p:nvSpPr>
        <p:spPr>
          <a:xfrm>
            <a:off x="-36360" y="4659480"/>
            <a:ext cx="3168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Imagem 8" descr="Eletrobras Cepel horiz gradiente"/>
          <p:cNvPicPr/>
          <p:nvPr/>
        </p:nvPicPr>
        <p:blipFill>
          <a:blip r:embed="rId2"/>
          <a:stretch/>
        </p:blipFill>
        <p:spPr>
          <a:xfrm>
            <a:off x="971640" y="50760"/>
            <a:ext cx="1584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Oval 14"/>
          <p:cNvSpPr/>
          <p:nvPr/>
        </p:nvSpPr>
        <p:spPr>
          <a:xfrm>
            <a:off x="778500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Imagem 2" descr=""/>
          <p:cNvPicPr/>
          <p:nvPr/>
        </p:nvPicPr>
        <p:blipFill>
          <a:blip r:embed="rId1"/>
          <a:stretch/>
        </p:blipFill>
        <p:spPr>
          <a:xfrm>
            <a:off x="755640" y="843120"/>
            <a:ext cx="7201080" cy="39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75" name="Rectangle 5"/>
          <p:cNvSpPr/>
          <p:nvPr/>
        </p:nvSpPr>
        <p:spPr>
          <a:xfrm>
            <a:off x="3640680" y="41112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GS Relat A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Oval 15"/>
          <p:cNvSpPr/>
          <p:nvPr/>
        </p:nvSpPr>
        <p:spPr>
          <a:xfrm>
            <a:off x="792648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7" name="Picture 7" descr=""/>
          <p:cNvPicPr/>
          <p:nvPr/>
        </p:nvPicPr>
        <p:blipFill>
          <a:blip r:embed="rId1"/>
          <a:stretch/>
        </p:blipFill>
        <p:spPr>
          <a:xfrm>
            <a:off x="1979640" y="915840"/>
            <a:ext cx="5008680" cy="38642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5"/>
          <p:cNvSpPr/>
          <p:nvPr/>
        </p:nvSpPr>
        <p:spPr>
          <a:xfrm>
            <a:off x="1927800" y="41112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GS Relat Adm – Definição de Materialid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1507320" y="484200"/>
            <a:ext cx="62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GS Relat – Preenchimento de variáveis e Homolog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665316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1" name="Picture 4" descr=""/>
          <p:cNvPicPr/>
          <p:nvPr/>
        </p:nvPicPr>
        <p:blipFill>
          <a:blip r:embed="rId1"/>
          <a:stretch/>
        </p:blipFill>
        <p:spPr>
          <a:xfrm>
            <a:off x="971640" y="987480"/>
            <a:ext cx="6719760" cy="35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2217240" y="411120"/>
            <a:ext cx="44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GS Relat – Relatórios de Consolid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8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4" name="Picture 3" descr=""/>
          <p:cNvPicPr/>
          <p:nvPr/>
        </p:nvPicPr>
        <p:blipFill>
          <a:blip r:embed="rId1"/>
          <a:stretch/>
        </p:blipFill>
        <p:spPr>
          <a:xfrm>
            <a:off x="1332000" y="843120"/>
            <a:ext cx="6335640" cy="38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3"/>
          <p:cNvSpPr/>
          <p:nvPr/>
        </p:nvSpPr>
        <p:spPr>
          <a:xfrm>
            <a:off x="108000" y="896760"/>
            <a:ext cx="885672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2014 e 2015</a:t>
            </a: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: Desenvolvimento computacional e fase de tes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2016</a:t>
            </a: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: Implementação com coleta de dados re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Participação das áreas nas discussões e etapas de elaboração dos indicadores de sustentabilidade e seus respectivos protoco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Áreas envolvidas</a:t>
            </a: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: Geração, Transmissão, Distribuição, Eficiência Energética, Governança, Meio Ambiente, Comunicação, Ouvidoria, Gestão de Pessoas, Riscos, Fornecedores e Clientes, Superintendência de Planejamento, Gestão Estratégica e Sustentabilid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Indicadores cadastrados </a:t>
            </a: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no IGS Relat: 2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Variáveis cadastradas </a:t>
            </a: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no IGS Relat: 17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Usuários cadastrados </a:t>
            </a: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no Sistema: 453 de 17 empresas do Sistema Eletrobras, incluindo geradoras, transmissoras e distribuidor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286800" y="4111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Uso do IGS Rel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3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108000" y="1036800"/>
            <a:ext cx="8856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Melhoria da Gestão da Sustentabilid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Desenvolvimento dos seus próprios indicadores seguindo os padrões sugeridos pela G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Domínio completo sob as informações histór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Facilidade em acessar os dados em qualquer temp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Desvinculação da dependência de consulto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Interface amig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Proximidade da equipe de desenvolvimento e da equipe de gest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Processo de correções e implementação de melhorias mais rápidos e eficaz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284640" y="4111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onclus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13"/>
          <p:cNvSpPr/>
          <p:nvPr/>
        </p:nvSpPr>
        <p:spPr>
          <a:xfrm>
            <a:off x="693576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Oval 17"/>
          <p:cNvSpPr/>
          <p:nvPr/>
        </p:nvSpPr>
        <p:spPr>
          <a:xfrm>
            <a:off x="820908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Picture 2" descr="C:\Users\WallE\Desktop\Sem Título-4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19"/>
          <p:cNvSpPr/>
          <p:nvPr/>
        </p:nvSpPr>
        <p:spPr>
          <a:xfrm>
            <a:off x="1403280" y="1563840"/>
            <a:ext cx="37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Katia Cristina Ga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Rectangle 25"/>
          <p:cNvSpPr/>
          <p:nvPr/>
        </p:nvSpPr>
        <p:spPr>
          <a:xfrm>
            <a:off x="1835280" y="2643120"/>
            <a:ext cx="39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igs@cepel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26"/>
          <p:cNvSpPr/>
          <p:nvPr/>
        </p:nvSpPr>
        <p:spPr>
          <a:xfrm>
            <a:off x="1784520" y="217800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(21) 2598-60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7"/>
          <p:cNvSpPr/>
          <p:nvPr/>
        </p:nvSpPr>
        <p:spPr>
          <a:xfrm>
            <a:off x="1784520" y="3065400"/>
            <a:ext cx="32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Arial"/>
              </a:rPr>
              <a:t>www.cepel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Picture 3" descr="C:\Users\WallE\Desktop\e-mail-envelope.png"/>
          <p:cNvPicPr/>
          <p:nvPr/>
        </p:nvPicPr>
        <p:blipFill>
          <a:blip r:embed="rId2"/>
          <a:stretch/>
        </p:blipFill>
        <p:spPr>
          <a:xfrm>
            <a:off x="1403280" y="2643120"/>
            <a:ext cx="249480" cy="2509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" descr="C:\Users\WallE\Desktop\phone-call.png"/>
          <p:cNvPicPr/>
          <p:nvPr/>
        </p:nvPicPr>
        <p:blipFill>
          <a:blip r:embed="rId3"/>
          <a:stretch/>
        </p:blipFill>
        <p:spPr>
          <a:xfrm>
            <a:off x="1403280" y="22255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" descr="C:\Users\WallE\Desktop\screen.png"/>
          <p:cNvPicPr/>
          <p:nvPr/>
        </p:nvPicPr>
        <p:blipFill>
          <a:blip r:embed="rId4"/>
          <a:stretch/>
        </p:blipFill>
        <p:spPr>
          <a:xfrm>
            <a:off x="1403280" y="3124080"/>
            <a:ext cx="252360" cy="252360"/>
          </a:xfrm>
          <a:prstGeom prst="rect">
            <a:avLst/>
          </a:prstGeom>
          <a:ln w="0">
            <a:noFill/>
          </a:ln>
        </p:spPr>
      </p:pic>
      <p:sp>
        <p:nvSpPr>
          <p:cNvPr id="800" name="Straight Connector 32"/>
          <p:cNvSpPr/>
          <p:nvPr/>
        </p:nvSpPr>
        <p:spPr>
          <a:xfrm>
            <a:off x="-36360" y="1971720"/>
            <a:ext cx="4502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4"/>
          <p:cNvSpPr/>
          <p:nvPr/>
        </p:nvSpPr>
        <p:spPr>
          <a:xfrm>
            <a:off x="2513160" y="268200"/>
            <a:ext cx="38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INDICADORES DE DESEMPENHO D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SUSTENTABILIDADE EMPRESAR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12"/>
          <p:cNvSpPr/>
          <p:nvPr/>
        </p:nvSpPr>
        <p:spPr>
          <a:xfrm>
            <a:off x="636912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Diagrama 15" descr=""/>
          <p:cNvPicPr/>
          <p:nvPr/>
        </p:nvPicPr>
        <p:blipFill>
          <a:blip r:embed="rId1"/>
          <a:stretch/>
        </p:blipFill>
        <p:spPr>
          <a:xfrm>
            <a:off x="304920" y="1238400"/>
            <a:ext cx="4144680" cy="2895480"/>
          </a:xfrm>
          <a:prstGeom prst="rect">
            <a:avLst/>
          </a:prstGeom>
          <a:ln w="0">
            <a:noFill/>
          </a:ln>
        </p:spPr>
      </p:pic>
      <p:pic>
        <p:nvPicPr>
          <p:cNvPr id="704" name="Diagrama 17" descr=""/>
          <p:cNvPicPr/>
          <p:nvPr/>
        </p:nvPicPr>
        <p:blipFill>
          <a:blip r:embed="rId2"/>
          <a:stretch/>
        </p:blipFill>
        <p:spPr>
          <a:xfrm>
            <a:off x="4968720" y="1195560"/>
            <a:ext cx="3675240" cy="2912760"/>
          </a:xfrm>
          <a:prstGeom prst="rect">
            <a:avLst/>
          </a:prstGeom>
          <a:ln w="0">
            <a:noFill/>
          </a:ln>
        </p:spPr>
      </p:pic>
      <p:sp>
        <p:nvSpPr>
          <p:cNvPr id="705" name="CaixaDeTexto 18"/>
          <p:cNvSpPr/>
          <p:nvPr/>
        </p:nvSpPr>
        <p:spPr>
          <a:xfrm>
            <a:off x="5940360" y="38196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alibri"/>
              </a:rPr>
              <a:t>Tripple botton line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4572000" y="4371840"/>
            <a:ext cx="434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*John Elkington, 1998.  Cannibals with forks: The triple bottom line of 21st century busines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3"/>
          <p:cNvSpPr/>
          <p:nvPr/>
        </p:nvSpPr>
        <p:spPr>
          <a:xfrm>
            <a:off x="395280" y="1160640"/>
            <a:ext cx="3349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Cenário Atual: crescentes demandas dos diferentes </a:t>
            </a:r>
            <a:r>
              <a:rPr b="0" i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ociedade civ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Organizações setor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Órgãos de fiscalização e contr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gências regulado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Inves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19"/>
          <p:cNvSpPr/>
          <p:nvPr/>
        </p:nvSpPr>
        <p:spPr>
          <a:xfrm>
            <a:off x="67946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2571840" y="339840"/>
            <a:ext cx="38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INDICADORES DE DESEMPENHO D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7f7f"/>
                </a:solidFill>
                <a:latin typeface="Arial"/>
                <a:ea typeface="Tahoma"/>
              </a:rPr>
              <a:t>SUSTENTABILIDADE EMPRESAR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upo 34"/>
          <p:cNvGrpSpPr/>
          <p:nvPr/>
        </p:nvGrpSpPr>
        <p:grpSpPr>
          <a:xfrm>
            <a:off x="3851280" y="3219480"/>
            <a:ext cx="5011560" cy="1081080"/>
            <a:chOff x="3851280" y="3219480"/>
            <a:chExt cx="5011560" cy="1081080"/>
          </a:xfrm>
        </p:grpSpPr>
        <p:sp>
          <p:nvSpPr>
            <p:cNvPr id="711" name="Rectangle 9"/>
            <p:cNvSpPr/>
            <p:nvPr/>
          </p:nvSpPr>
          <p:spPr>
            <a:xfrm>
              <a:off x="3851280" y="3317760"/>
              <a:ext cx="5011560" cy="982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2" name="Picture 7" descr="http://www.cdproject.net/images/CDP2logo.gif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074920" y="4011840"/>
              <a:ext cx="273960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8" descr="http://www.sustainability-indexes.com/06_gfx/logo.gif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074920" y="3363480"/>
              <a:ext cx="2318760" cy="56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9" descr="FTS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994920" y="3219480"/>
              <a:ext cx="947520" cy="636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5" name="Object 11"/>
            <p:cNvGraphicFramePr/>
            <p:nvPr/>
          </p:nvGraphicFramePr>
          <p:xfrm>
            <a:off x="7595280" y="3363480"/>
            <a:ext cx="962640" cy="53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6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95280" y="3363480"/>
                      <a:ext cx="96264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AutoShape 1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AutoShape 2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2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2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AutoShape 2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5" name="Grupo 35"/>
          <p:cNvGrpSpPr/>
          <p:nvPr/>
        </p:nvGrpSpPr>
        <p:grpSpPr>
          <a:xfrm>
            <a:off x="6443640" y="1182600"/>
            <a:ext cx="2430360" cy="2016360"/>
            <a:chOff x="6443640" y="1182600"/>
            <a:chExt cx="2430360" cy="2016360"/>
          </a:xfrm>
        </p:grpSpPr>
        <p:sp>
          <p:nvSpPr>
            <p:cNvPr id="726" name="Rectangle 5"/>
            <p:cNvSpPr/>
            <p:nvPr/>
          </p:nvSpPr>
          <p:spPr>
            <a:xfrm>
              <a:off x="6443640" y="1182600"/>
              <a:ext cx="2430360" cy="2016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32" descr=""/>
            <p:cNvPicPr/>
            <p:nvPr/>
          </p:nvPicPr>
          <p:blipFill>
            <a:blip r:embed="rId9"/>
            <a:stretch/>
          </p:blipFill>
          <p:spPr>
            <a:xfrm>
              <a:off x="6606360" y="1275480"/>
              <a:ext cx="648000" cy="68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33" descr=""/>
            <p:cNvPicPr/>
            <p:nvPr/>
          </p:nvPicPr>
          <p:blipFill>
            <a:blip r:embed="rId10"/>
            <a:stretch/>
          </p:blipFill>
          <p:spPr>
            <a:xfrm>
              <a:off x="6606360" y="2067840"/>
              <a:ext cx="56268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4" descr=""/>
            <p:cNvPicPr/>
            <p:nvPr/>
          </p:nvPicPr>
          <p:blipFill>
            <a:blip r:embed="rId11"/>
            <a:stretch/>
          </p:blipFill>
          <p:spPr>
            <a:xfrm>
              <a:off x="7326360" y="1419480"/>
              <a:ext cx="14400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35" descr=""/>
            <p:cNvPicPr/>
            <p:nvPr/>
          </p:nvPicPr>
          <p:blipFill>
            <a:blip r:embed="rId12"/>
            <a:stretch/>
          </p:blipFill>
          <p:spPr>
            <a:xfrm>
              <a:off x="7326360" y="1995480"/>
              <a:ext cx="1409040" cy="37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36" descr=""/>
            <p:cNvPicPr/>
            <p:nvPr/>
          </p:nvPicPr>
          <p:blipFill>
            <a:blip r:embed="rId13"/>
            <a:stretch/>
          </p:blipFill>
          <p:spPr>
            <a:xfrm>
              <a:off x="6606360" y="2643840"/>
              <a:ext cx="180864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upo 33"/>
          <p:cNvGrpSpPr/>
          <p:nvPr/>
        </p:nvGrpSpPr>
        <p:grpSpPr>
          <a:xfrm>
            <a:off x="3851280" y="1182600"/>
            <a:ext cx="2430360" cy="2016360"/>
            <a:chOff x="3851280" y="1182600"/>
            <a:chExt cx="2430360" cy="2016360"/>
          </a:xfrm>
        </p:grpSpPr>
        <p:sp>
          <p:nvSpPr>
            <p:cNvPr id="733" name="Rectangle 7"/>
            <p:cNvSpPr/>
            <p:nvPr/>
          </p:nvSpPr>
          <p:spPr>
            <a:xfrm>
              <a:off x="3851280" y="1182600"/>
              <a:ext cx="2430360" cy="2016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4" name="Picture 4" descr="GRI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3922920" y="1275480"/>
              <a:ext cx="10080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19" descr="Resultado de imagem para OCDE  logo"/>
            <p:cNvPicPr/>
            <p:nvPr/>
          </p:nvPicPr>
          <p:blipFill>
            <a:blip r:embed="rId16"/>
            <a:stretch/>
          </p:blipFill>
          <p:spPr>
            <a:xfrm>
              <a:off x="5435280" y="1275480"/>
              <a:ext cx="74700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30" descr=""/>
            <p:cNvPicPr/>
            <p:nvPr/>
          </p:nvPicPr>
          <p:blipFill>
            <a:blip r:embed="rId17"/>
            <a:stretch/>
          </p:blipFill>
          <p:spPr>
            <a:xfrm>
              <a:off x="3922920" y="1851480"/>
              <a:ext cx="1008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31" descr=""/>
            <p:cNvPicPr/>
            <p:nvPr/>
          </p:nvPicPr>
          <p:blipFill>
            <a:blip r:embed="rId18"/>
            <a:stretch/>
          </p:blipFill>
          <p:spPr>
            <a:xfrm>
              <a:off x="3922920" y="2427840"/>
              <a:ext cx="1118880" cy="4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37" descr=""/>
            <p:cNvPicPr/>
            <p:nvPr/>
          </p:nvPicPr>
          <p:blipFill>
            <a:blip r:embed="rId19"/>
            <a:stretch/>
          </p:blipFill>
          <p:spPr>
            <a:xfrm>
              <a:off x="5219280" y="1995480"/>
              <a:ext cx="951120" cy="73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Oval 9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0" name="Picture 3" descr=""/>
          <p:cNvPicPr/>
          <p:nvPr/>
        </p:nvPicPr>
        <p:blipFill>
          <a:blip r:embed="rId1"/>
          <a:stretch/>
        </p:blipFill>
        <p:spPr>
          <a:xfrm>
            <a:off x="1230480" y="987480"/>
            <a:ext cx="6294240" cy="374472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5"/>
          <p:cNvSpPr/>
          <p:nvPr/>
        </p:nvSpPr>
        <p:spPr>
          <a:xfrm>
            <a:off x="2922120" y="41112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ISTEMA IGS – Ambi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Oval 10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25"/>
          <p:cNvSpPr/>
          <p:nvPr/>
        </p:nvSpPr>
        <p:spPr>
          <a:xfrm>
            <a:off x="721836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4" name="Imagem 3" descr=""/>
          <p:cNvPicPr/>
          <p:nvPr/>
        </p:nvPicPr>
        <p:blipFill>
          <a:blip r:embed="rId1"/>
          <a:stretch/>
        </p:blipFill>
        <p:spPr>
          <a:xfrm>
            <a:off x="1619280" y="1058760"/>
            <a:ext cx="5689440" cy="352908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5"/>
          <p:cNvSpPr/>
          <p:nvPr/>
        </p:nvSpPr>
        <p:spPr>
          <a:xfrm>
            <a:off x="1575720" y="484200"/>
            <a:ext cx="56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Metodologia de Desenvolvimento dos Indic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Oval 9"/>
          <p:cNvSpPr/>
          <p:nvPr/>
        </p:nvSpPr>
        <p:spPr>
          <a:xfrm>
            <a:off x="70772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2922120" y="41112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SISTEMA IGS – Ambi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363640" y="843120"/>
            <a:ext cx="33814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f7f7f"/>
                </a:solidFill>
                <a:latin typeface="Arial"/>
                <a:ea typeface="Tahoma"/>
              </a:rPr>
              <a:t>Relatório Anual de Sustentabilida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f7f7f"/>
                </a:solidFill>
                <a:latin typeface="Arial"/>
                <a:ea typeface="Tahoma"/>
              </a:rPr>
              <a:t>Relatório de Administr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f7f7f"/>
                </a:solidFill>
                <a:latin typeface="Arial"/>
                <a:ea typeface="Tahoma"/>
              </a:rPr>
              <a:t>Questionários ISE/ Bovespa, Dow Jones Sustainability Index (DJSI), Carbon Disclousure Project (C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f7f7f"/>
                </a:solidFill>
                <a:latin typeface="Arial"/>
                <a:ea typeface="Tahoma"/>
              </a:rPr>
              <a:t>Inventário de Gases de Efeito Estufa das Empresas Eletrobr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5"/>
          <p:cNvGrpSpPr/>
          <p:nvPr/>
        </p:nvGrpSpPr>
        <p:grpSpPr>
          <a:xfrm>
            <a:off x="539640" y="3867120"/>
            <a:ext cx="8185320" cy="865080"/>
            <a:chOff x="539640" y="3867120"/>
            <a:chExt cx="8185320" cy="865080"/>
          </a:xfrm>
        </p:grpSpPr>
        <p:pic>
          <p:nvPicPr>
            <p:cNvPr id="750" name="Imagem 6" descr="UTE Candiota.jpg"/>
            <p:cNvPicPr/>
            <p:nvPr/>
          </p:nvPicPr>
          <p:blipFill>
            <a:blip r:embed="rId1"/>
            <a:stretch/>
          </p:blipFill>
          <p:spPr>
            <a:xfrm>
              <a:off x="2190600" y="3867120"/>
              <a:ext cx="169380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Imagem 7" descr="UHE Itaipu.jpg"/>
            <p:cNvPicPr/>
            <p:nvPr/>
          </p:nvPicPr>
          <p:blipFill>
            <a:blip r:embed="rId2"/>
            <a:stretch/>
          </p:blipFill>
          <p:spPr>
            <a:xfrm>
              <a:off x="539640" y="3867120"/>
              <a:ext cx="1680120" cy="8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2" name="Grupo 18"/>
            <p:cNvGrpSpPr/>
            <p:nvPr/>
          </p:nvGrpSpPr>
          <p:grpSpPr>
            <a:xfrm>
              <a:off x="7071840" y="3867120"/>
              <a:ext cx="1653120" cy="865080"/>
              <a:chOff x="7071840" y="3867120"/>
              <a:chExt cx="1653120" cy="865080"/>
            </a:xfrm>
          </p:grpSpPr>
          <p:pic>
            <p:nvPicPr>
              <p:cNvPr id="753" name="Imagem 12" descr="20080102-eolico.jpg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3868920"/>
                <a:ext cx="1638360" cy="86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Retângulo 13"/>
              <p:cNvSpPr/>
              <p:nvPr/>
            </p:nvSpPr>
            <p:spPr>
              <a:xfrm>
                <a:off x="7071840" y="3867120"/>
                <a:ext cx="1653120" cy="865080"/>
              </a:xfrm>
              <a:prstGeom prst="rect">
                <a:avLst/>
              </a:prstGeom>
              <a:solidFill>
                <a:srgbClr val="ffff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5" name="Imagem 11" descr="LD Roraima.jpg"/>
            <p:cNvPicPr/>
            <p:nvPr/>
          </p:nvPicPr>
          <p:blipFill>
            <a:blip r:embed="rId4"/>
            <a:stretch/>
          </p:blipFill>
          <p:spPr>
            <a:xfrm>
              <a:off x="5492520" y="3867120"/>
              <a:ext cx="16966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Imagem 11" descr="LT Itaipu.jpg"/>
            <p:cNvPicPr/>
            <p:nvPr/>
          </p:nvPicPr>
          <p:blipFill>
            <a:blip r:embed="rId5"/>
            <a:stretch/>
          </p:blipFill>
          <p:spPr>
            <a:xfrm>
              <a:off x="3841560" y="3867120"/>
              <a:ext cx="169812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Grupo 14"/>
          <p:cNvGrpSpPr/>
          <p:nvPr/>
        </p:nvGrpSpPr>
        <p:grpSpPr>
          <a:xfrm>
            <a:off x="108000" y="915840"/>
            <a:ext cx="5400720" cy="2873520"/>
            <a:chOff x="108000" y="915840"/>
            <a:chExt cx="5400720" cy="2873520"/>
          </a:xfrm>
        </p:grpSpPr>
        <p:pic>
          <p:nvPicPr>
            <p:cNvPr id="758" name="Diagrama 15" descr=""/>
            <p:cNvPicPr/>
            <p:nvPr/>
          </p:nvPicPr>
          <p:blipFill>
            <a:blip r:embed="rId6"/>
            <a:stretch/>
          </p:blipFill>
          <p:spPr>
            <a:xfrm>
              <a:off x="108000" y="915840"/>
              <a:ext cx="540072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Elipse 16"/>
            <p:cNvSpPr/>
            <p:nvPr/>
          </p:nvSpPr>
          <p:spPr>
            <a:xfrm>
              <a:off x="2581560" y="1792080"/>
              <a:ext cx="459000" cy="3693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Picture 3" descr=""/>
          <p:cNvPicPr/>
          <p:nvPr/>
        </p:nvPicPr>
        <p:blipFill>
          <a:blip r:embed="rId8"/>
          <a:stretch/>
        </p:blipFill>
        <p:spPr>
          <a:xfrm>
            <a:off x="5867280" y="3363840"/>
            <a:ext cx="311400" cy="397080"/>
          </a:xfrm>
          <a:prstGeom prst="rect">
            <a:avLst/>
          </a:prstGeom>
          <a:ln w="0">
            <a:noFill/>
          </a:ln>
        </p:spPr>
      </p:pic>
      <p:sp>
        <p:nvSpPr>
          <p:cNvPr id="761" name="Retângulo 18"/>
          <p:cNvSpPr/>
          <p:nvPr/>
        </p:nvSpPr>
        <p:spPr>
          <a:xfrm>
            <a:off x="6300720" y="3435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f7f7f"/>
                </a:solidFill>
                <a:latin typeface="Arial"/>
                <a:ea typeface="Tahoma"/>
              </a:rPr>
              <a:t>558 usuár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Oval 11"/>
          <p:cNvSpPr/>
          <p:nvPr/>
        </p:nvSpPr>
        <p:spPr>
          <a:xfrm>
            <a:off x="7359480" y="494820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3" descr=""/>
          <p:cNvPicPr/>
          <p:nvPr/>
        </p:nvPicPr>
        <p:blipFill>
          <a:blip r:embed="rId1"/>
          <a:stretch/>
        </p:blipFill>
        <p:spPr>
          <a:xfrm>
            <a:off x="1116000" y="987480"/>
            <a:ext cx="6396120" cy="364644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5"/>
          <p:cNvSpPr/>
          <p:nvPr/>
        </p:nvSpPr>
        <p:spPr>
          <a:xfrm>
            <a:off x="1783800" y="41112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MBIENTE IGS (SISTEMA IGS 2.0 e IGS Re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5"/>
          <p:cNvSpPr/>
          <p:nvPr/>
        </p:nvSpPr>
        <p:spPr>
          <a:xfrm>
            <a:off x="3644280" y="41112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Ambiente I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8"/>
          <p:cNvSpPr/>
          <p:nvPr/>
        </p:nvSpPr>
        <p:spPr>
          <a:xfrm>
            <a:off x="6512040" y="494820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5" descr=""/>
          <p:cNvPicPr/>
          <p:nvPr/>
        </p:nvPicPr>
        <p:blipFill>
          <a:blip r:embed="rId1"/>
          <a:stretch/>
        </p:blipFill>
        <p:spPr>
          <a:xfrm>
            <a:off x="231840" y="987480"/>
            <a:ext cx="4454640" cy="2663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68" name="Picture 6" descr=""/>
          <p:cNvPicPr/>
          <p:nvPr/>
        </p:nvPicPr>
        <p:blipFill>
          <a:blip r:embed="rId2"/>
          <a:stretch/>
        </p:blipFill>
        <p:spPr>
          <a:xfrm>
            <a:off x="3894120" y="1995480"/>
            <a:ext cx="5079960" cy="237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Oval 12"/>
          <p:cNvSpPr/>
          <p:nvPr/>
        </p:nvSpPr>
        <p:spPr>
          <a:xfrm>
            <a:off x="7502400" y="494820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Imagem 2" descr="homologacaoRelat"/>
          <p:cNvPicPr/>
          <p:nvPr/>
        </p:nvPicPr>
        <p:blipFill>
          <a:blip r:embed="rId1"/>
          <a:stretch/>
        </p:blipFill>
        <p:spPr>
          <a:xfrm>
            <a:off x="324000" y="987480"/>
            <a:ext cx="4319280" cy="2663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71" name="Rectangle 5"/>
          <p:cNvSpPr/>
          <p:nvPr/>
        </p:nvSpPr>
        <p:spPr>
          <a:xfrm>
            <a:off x="2456280" y="41112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ahoma"/>
              </a:rPr>
              <a:t>Fluxo de Informações no IGS Rel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Imagem 4" descr=""/>
          <p:cNvPicPr/>
          <p:nvPr/>
        </p:nvPicPr>
        <p:blipFill>
          <a:blip r:embed="rId2"/>
          <a:stretch/>
        </p:blipFill>
        <p:spPr>
          <a:xfrm>
            <a:off x="4788000" y="1419120"/>
            <a:ext cx="4105080" cy="3168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9T11:02:55Z</dcterms:created>
  <dc:creator>WallE</dc:creator>
  <dc:description/>
  <dc:language>en-US</dc:language>
  <cp:lastModifiedBy>Katia Cristina Garcia</cp:lastModifiedBy>
  <dcterms:modified xsi:type="dcterms:W3CDTF">2017-10-16T19:37:59Z</dcterms:modified>
  <cp:revision>32</cp:revision>
  <dc:subject/>
  <dc:title>PowerPoint Presentation</dc:title>
</cp:coreProperties>
</file>