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7.jpeg" ContentType="image/jpeg"/>
  <Override PartName="/ppt/media/image14.jpeg" ContentType="image/jpeg"/>
  <Override PartName="/ppt/media/image15.jpeg" ContentType="image/jpeg"/>
  <Override PartName="/ppt/media/image3.wmf" ContentType="image/x-wmf"/>
  <Override PartName="/ppt/media/image4.jpeg" ContentType="image/jpeg"/>
  <Override PartName="/ppt/media/image2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845A7-CAA0-4C00-AAF5-A867E180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CCFAB-D7A2-4719-8A15-DE352DF2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B2954-E90D-4B12-9DED-85B65D4C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944E2-B136-48D0-89F2-4062747E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85D1D-2F8E-4761-A19E-BF1B60AF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81F4F-653D-4E35-B893-E6971265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1C4D9-82F8-476C-A36E-D02AB04D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C4A49-CC69-4679-88D5-83EE263E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8EDDC-470C-4C6B-A877-5ABFC90A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213D9-1D0D-4F5A-8922-2DE25421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DCDEC-451F-4E09-8AA5-02A4585F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7FDA2-83D5-486C-AAD8-F8E389DA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D8A8E-B642-4192-9551-F5407747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31295-340A-4FE8-909D-FA321EDF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DFE79-A6B6-4E4C-B898-DD965B31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1401D-873E-48F5-BE1E-EEBE7C9F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2AD91-398F-43A5-9D63-74C6F45B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37E8A-29E9-472B-84CB-7CA193DB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AC52B-834A-45F8-AEF3-A9CE0AC0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35AE4-3A29-4B91-A933-7BB3B462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7EC51-597D-4F17-84E9-26264A2E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344CD-3E70-40F0-9893-E0DE50C0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BCEE4-2CD0-47B1-94B3-0FBD4BC1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C41E2-68AA-4258-ADD3-482012E0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2AB35-A93B-4CAA-BEB9-084C1991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BAB62-BA62-436D-BF3B-B126AC69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F445A-884C-46FB-A3FE-AF9C350A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9F1ED-4C88-4D3B-8689-FCB2D020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9480C-CE78-49C0-858C-AB829BC3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69E94-6535-4D97-B1FE-63ECC5E4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8E7-175D-4769-B9AD-E90C5021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66717-128E-4D7F-A61A-C93168A9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8ECD2-02ED-4EA0-A5DB-FD750A8A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57558-08CE-4719-A9FB-3598F459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4A09D-B1FE-4AD8-A645-7191026D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91213-0824-4332-88C1-9D8E9190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931FA-A4F0-4298-B3C9-83F5EA0E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D9520-529D-4457-8B9D-5DA225FE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4B9F9-278E-4448-8BC5-1A8B1E3B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3A7C1-AA8F-4BF2-B15C-991CEFA1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7D865-8991-45AF-ABBB-FEB0FE0E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E03-D8E4-42FB-B554-CE44C901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CC537-3899-4E48-90E5-2C7C6482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4A4A0-955B-46C9-B8A6-CE72B41F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85EB8-15EA-4CD4-9F2A-6014BFAF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3B19E-7B29-4262-8595-8D1A244E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49579-4F4A-4203-97D2-5599488A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83D-E36D-493C-B7EB-DFB7764E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D066-CD0E-46EB-BD29-BCA96D4F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CA9-B746-4DF6-AE6F-083B274E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8A7-871E-4C9E-B368-3DDE376A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3EB-B1DC-4760-BD30-4374F36A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A7A9-B05F-4E00-8319-5613368D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EA51-C04A-44F4-92A1-ECC931D3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097-A3F1-4E42-9C56-3786F8D5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C196-B85B-4ECD-926F-BBC8882F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400-33B3-4C0C-8191-79189207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30A6-C4AB-4D1F-803E-9665C841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9EAF-F13A-4B9A-BDBF-F22E3B0D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6CFB-3BEA-4A01-9BD6-8EE35828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8EE1-0040-4B78-A8A1-919A1589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5585-A783-49BB-BEED-7664DBAF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3413-03BA-4AFF-8728-EA982820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E1DE-4B1E-4DFF-A813-37F52691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4EA9-7294-4CC8-B3DD-ABC5CB45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9AD9-0BE8-42D2-8EB8-E64FE18B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970B-857F-4FAB-A0AB-73E53264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EB00-417C-4D36-BA29-B796F440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A438-7385-4BE8-9D82-E159EE39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F7DE7-2C24-4275-8A90-686354A7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28578-2FED-45C7-B673-123612CB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6399A-31C4-45ED-8C54-3D971A12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3BAC1-F25C-4A32-99E0-F5A64CE2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26A1A-2A08-4322-9A39-4CC88B68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54B3D-2853-4216-B1B6-44256088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21968-884A-4282-8619-5E3242DA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D2636-CEBB-4887-BABA-6EBA5D52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29769-8C44-48D9-A3F7-DAF375B9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BBDF3-233E-4CFA-AAA2-B9B54087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4374D-9B62-4486-88A4-C59DB34C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84896-A307-43ED-A6CF-F292423F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C5BAC-1796-4BB7-AA2A-F2766A28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2705D-2720-4AC3-BABC-BABB44F9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26DEB-FE4B-4C85-B861-F5FFEE6C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1DCE9-CA48-4E3E-B9A3-168CA4CA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0DEBD-541B-4073-82FF-7B900E6E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B141C-6DF8-4030-8B27-BE0333DC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29370-3949-4DC1-8ABF-4D36241F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8D78D-429E-4690-B44F-FCCF8854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A345A-C956-4365-B4FF-9A0EEA8A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48AB5-AABD-4A32-B305-83F76332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E8C90-883E-4080-8B55-57605509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ACB81-DF18-4118-9289-0F65F11E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4D56A-D65B-4C1D-A382-957CADC8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4D5C8-E1A0-4457-950A-66DD4BC6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D8B48-A688-4EA7-9339-0BD72034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02113-2EDA-44AB-9629-1ED96DD1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8582D-A527-4CCE-9424-FCF6A1DC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E3E8D-265E-41DB-8E25-6BDBCC55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4839B-0C2D-4D49-AF74-D6921D04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0736A-A30C-4663-998F-45028E49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51D46-AA7F-470D-9214-D2B04B5B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47203-1BFE-4054-8228-50362D2C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0DC2A-8BB8-468D-BA4F-E7BCDF70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70CA0-0ECB-435D-B0B1-EAEDDA22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479F0-6B5A-40D0-B268-6A7F09D0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1DBBA-056C-4BCC-A830-ED6B7D84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0E371-364F-4EFD-8722-E91E7346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9368D-8B77-485F-9483-243D1C42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881A6-96A2-4B6A-A230-A3053556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3B50D-1F89-453B-9B1B-C3767F98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1CA77-D403-4061-BDBF-C523EAC3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FED24-1CD5-4F4A-B674-F01C208A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0DE7D-5D8A-49FE-AC48-C80BEFBD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FE063-670B-4155-9B2F-0DCCEE32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CEF67-6042-4414-9855-0F71317A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A5622-A8F9-40F5-9D34-C0E0817E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6DBEA-F5D0-4585-9413-418B034D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5705F-7F22-4F75-8890-BBA93004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DAA5C-3834-415C-884E-97A0ABD1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7175F-525D-4A18-BDCA-278A2291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CB159-F680-43A3-B3FF-1E3769A0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F9305-C783-4950-86C2-ABE9FCD6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5FF95-9B18-4B91-9DA5-D8898BC6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490C9-E439-4975-8E84-F6399ED1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C2C87-7B16-4B93-867B-56BEC3A5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4FD72-B1F8-4514-A15F-EAA38B33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7947D-27EB-42A1-8CB6-2B0DB0F0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8C4F6-844C-4531-B53A-252D79D6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83EB5-14B8-41D2-AC6E-C0F39ECC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4D7FB-46D2-46DE-ADD3-143A8477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35134-DE4B-4438-99B9-4CB97EBF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085C-D9A2-4168-B67A-BFF725A19FD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1C48-EE33-4A0B-92EE-B798BBB673D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38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CB63-712C-4EEF-8A3C-87877C833A8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D643-A271-40E3-8F5F-B520CB28EC6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F8D8-BDD3-4F08-96D7-D39FE2C4F74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487C-EAC8-44F3-9A90-36092DD493C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C96E-B8AE-4EE1-8087-E39DF048DE4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85E8-A38B-4C6F-B3B3-66F038990D3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D615-ED75-4EC3-8675-234B6AE2F1E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8D7D-5D8F-4D52-BE84-AAACCD67C90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2B98-302F-4BAE-874C-F6FBF69AE3C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rchdaily.com.br/br/804172/primeira-cidade-inteligente-do-brasil-sera-inaugurada-ainda-este-ano/5889f946e58ece61eb00045a-primeira-cidade-inteligente-do-brasil-sera-inaugurada-ainda-este-ano-imagem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ZEUS\ArquivosWX\Clientes\SNPTEE 2017\SNPTEE\Arquivos\Sem Título-2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96" name="Oval 13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3"/>
          <p:cNvSpPr/>
          <p:nvPr/>
        </p:nvSpPr>
        <p:spPr>
          <a:xfrm>
            <a:off x="0" y="4071960"/>
            <a:ext cx="3357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  <a:ea typeface="Arial"/>
              </a:rPr>
              <a:t>GEC 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3300"/>
                </a:solidFill>
                <a:latin typeface="Arial"/>
                <a:ea typeface="Arial"/>
              </a:rPr>
              <a:t>EDUARDO NER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0" y="2214720"/>
            <a:ext cx="3710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3300"/>
                </a:solidFill>
                <a:latin typeface="Arial Narrow"/>
              </a:rPr>
              <a:t>O COMPARTILHAMENTO DO DESENVOLVIMENTO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3300"/>
                </a:solidFill>
                <a:latin typeface="Arial Narrow"/>
              </a:rPr>
              <a:t>E IMPLEMENTAÇÃO DE REDES INTELIGENTES D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3300"/>
                </a:solidFill>
                <a:latin typeface="Arial Narrow"/>
              </a:rPr>
              <a:t>ENERGIA COM CIDADES INTELIGENTES                         E INTERNET DAS COISA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traight Connector 7"/>
          <p:cNvSpPr/>
          <p:nvPr/>
        </p:nvSpPr>
        <p:spPr>
          <a:xfrm>
            <a:off x="-36360" y="4659480"/>
            <a:ext cx="3168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0" name="Imagem 8" descr="Energy Choice Logo"/>
          <p:cNvPicPr/>
          <p:nvPr/>
        </p:nvPicPr>
        <p:blipFill>
          <a:blip r:embed="rId2"/>
          <a:stretch/>
        </p:blipFill>
        <p:spPr>
          <a:xfrm>
            <a:off x="500040" y="785880"/>
            <a:ext cx="242244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tângulo 3"/>
          <p:cNvSpPr/>
          <p:nvPr/>
        </p:nvSpPr>
        <p:spPr>
          <a:xfrm>
            <a:off x="285840" y="214200"/>
            <a:ext cx="15714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Imagem 1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8169120" cy="4282920"/>
          </a:xfrm>
          <a:prstGeom prst="rect">
            <a:avLst/>
          </a:prstGeom>
          <a:ln w="0">
            <a:noFill/>
          </a:ln>
        </p:spPr>
      </p:pic>
      <p:pic>
        <p:nvPicPr>
          <p:cNvPr id="837" name="Imagem 8" descr="Energy Choice Logo"/>
          <p:cNvPicPr/>
          <p:nvPr/>
        </p:nvPicPr>
        <p:blipFill>
          <a:blip r:embed="rId2"/>
          <a:stretch/>
        </p:blipFill>
        <p:spPr>
          <a:xfrm>
            <a:off x="0" y="142920"/>
            <a:ext cx="1857240" cy="471600"/>
          </a:xfrm>
          <a:prstGeom prst="rect">
            <a:avLst/>
          </a:prstGeom>
          <a:ln w="0">
            <a:noFill/>
          </a:ln>
        </p:spPr>
      </p:pic>
      <p:sp>
        <p:nvSpPr>
          <p:cNvPr id="838" name="Retângulo 4"/>
          <p:cNvSpPr/>
          <p:nvPr/>
        </p:nvSpPr>
        <p:spPr>
          <a:xfrm>
            <a:off x="2214720" y="0"/>
            <a:ext cx="5143320" cy="642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Arial"/>
                <a:ea typeface="Arial"/>
              </a:rPr>
              <a:t>O</a:t>
            </a:r>
            <a:r>
              <a:rPr b="0" lang="pt-BR" sz="1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pt-BR" sz="1800" spc="-1" strike="noStrike">
                <a:solidFill>
                  <a:srgbClr val="003300"/>
                </a:solidFill>
                <a:latin typeface="Arial"/>
                <a:ea typeface="Arial"/>
              </a:rPr>
              <a:t>UNIVERSO DA INTERNET DAS COI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2060"/>
                </a:solidFill>
                <a:latin typeface="Arial"/>
                <a:ea typeface="Arial"/>
              </a:rPr>
              <a:t>SEM LIMI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Retângulo 5"/>
          <p:cNvSpPr/>
          <p:nvPr/>
        </p:nvSpPr>
        <p:spPr>
          <a:xfrm>
            <a:off x="2857680" y="785880"/>
            <a:ext cx="328608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Retângulo 70"/>
          <p:cNvSpPr/>
          <p:nvPr/>
        </p:nvSpPr>
        <p:spPr>
          <a:xfrm>
            <a:off x="0" y="4786200"/>
            <a:ext cx="9144000" cy="285840"/>
          </a:xfrm>
          <a:prstGeom prst="rect">
            <a:avLst/>
          </a:prstGeom>
          <a:solidFill>
            <a:srgbClr val="00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GEC 26 - </a:t>
            </a:r>
            <a:r>
              <a:rPr b="1" lang="pt-BR" sz="1200" spc="-1" strike="noStrike">
                <a:solidFill>
                  <a:srgbClr val="ffffff"/>
                </a:solidFill>
                <a:latin typeface="Arial Narrow"/>
              </a:rPr>
              <a:t>O COMPARTILHAMENTO DO DESENVOLVIMENTO E IMPLEMENTAÇÃO DE REDES... -  EDUARDO 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Oval 13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Retângulo 2"/>
          <p:cNvSpPr/>
          <p:nvPr/>
        </p:nvSpPr>
        <p:spPr>
          <a:xfrm>
            <a:off x="0" y="4857840"/>
            <a:ext cx="9144000" cy="285840"/>
          </a:xfrm>
          <a:prstGeom prst="rect">
            <a:avLst/>
          </a:prstGeom>
          <a:solidFill>
            <a:srgbClr val="00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GEC 26 - </a:t>
            </a:r>
            <a:r>
              <a:rPr b="1" lang="pt-BR" sz="1200" spc="-1" strike="noStrike">
                <a:solidFill>
                  <a:srgbClr val="ffffff"/>
                </a:solidFill>
                <a:latin typeface="Arial Narrow"/>
              </a:rPr>
              <a:t>O COMPARTILHAMENTO DO DESENVOLVIMENTO E IMPLEMENTAÇÃO DE REDES... -  EDUARDO 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Retângulo 3"/>
          <p:cNvSpPr/>
          <p:nvPr/>
        </p:nvSpPr>
        <p:spPr>
          <a:xfrm>
            <a:off x="357120" y="142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4" name="Imagem 8" descr="Energy Choice Logo"/>
          <p:cNvPicPr/>
          <p:nvPr/>
        </p:nvPicPr>
        <p:blipFill>
          <a:blip r:embed="rId1"/>
          <a:stretch/>
        </p:blipFill>
        <p:spPr>
          <a:xfrm>
            <a:off x="142920" y="214200"/>
            <a:ext cx="1857240" cy="47160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6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3882960"/>
          </a:xfrm>
          <a:prstGeom prst="rect">
            <a:avLst/>
          </a:prstGeom>
          <a:ln w="0">
            <a:noFill/>
          </a:ln>
        </p:spPr>
      </p:pic>
      <p:sp>
        <p:nvSpPr>
          <p:cNvPr id="846" name="Retângulo 14"/>
          <p:cNvSpPr/>
          <p:nvPr/>
        </p:nvSpPr>
        <p:spPr>
          <a:xfrm>
            <a:off x="0" y="4572000"/>
            <a:ext cx="4929120" cy="285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Retângulo 15"/>
          <p:cNvSpPr/>
          <p:nvPr/>
        </p:nvSpPr>
        <p:spPr>
          <a:xfrm>
            <a:off x="4857840" y="4572000"/>
            <a:ext cx="4286160" cy="285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Retângulo 16"/>
          <p:cNvSpPr/>
          <p:nvPr/>
        </p:nvSpPr>
        <p:spPr>
          <a:xfrm>
            <a:off x="2786040" y="785880"/>
            <a:ext cx="32148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9" name="Picture 2" descr="F:\Smart\A4.2 Internet of Agribusiness - Internet del Agronegocio\internet-of-things-agriculture_large.jpg"/>
          <p:cNvPicPr/>
          <p:nvPr/>
        </p:nvPicPr>
        <p:blipFill>
          <a:blip r:embed="rId3"/>
          <a:stretch/>
        </p:blipFill>
        <p:spPr>
          <a:xfrm>
            <a:off x="4572000" y="928800"/>
            <a:ext cx="4572000" cy="1912680"/>
          </a:xfrm>
          <a:prstGeom prst="rect">
            <a:avLst/>
          </a:prstGeom>
          <a:ln w="0">
            <a:noFill/>
          </a:ln>
        </p:spPr>
      </p:pic>
      <p:sp>
        <p:nvSpPr>
          <p:cNvPr id="850" name="Retângulo 18"/>
          <p:cNvSpPr/>
          <p:nvPr/>
        </p:nvSpPr>
        <p:spPr>
          <a:xfrm>
            <a:off x="2857680" y="142920"/>
            <a:ext cx="4143240" cy="5713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Arial"/>
                <a:ea typeface="Arial"/>
              </a:rPr>
              <a:t>AGRONEGÓCIO INTELIG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Oval 16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Retângulo 4"/>
          <p:cNvSpPr/>
          <p:nvPr/>
        </p:nvSpPr>
        <p:spPr>
          <a:xfrm>
            <a:off x="0" y="4786200"/>
            <a:ext cx="9144000" cy="285840"/>
          </a:xfrm>
          <a:prstGeom prst="rect">
            <a:avLst/>
          </a:prstGeom>
          <a:solidFill>
            <a:srgbClr val="00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GEC 26 - </a:t>
            </a:r>
            <a:r>
              <a:rPr b="1" lang="pt-BR" sz="1200" spc="-1" strike="noStrike">
                <a:solidFill>
                  <a:srgbClr val="ffffff"/>
                </a:solidFill>
                <a:latin typeface="Arial Narrow"/>
              </a:rPr>
              <a:t>O COMPARTILHAMENTO DO DESENVOLVIMENTO E IMPLEMENTAÇÃO DE REDES... -  EDUARDO 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Retângulo 5"/>
          <p:cNvSpPr/>
          <p:nvPr/>
        </p:nvSpPr>
        <p:spPr>
          <a:xfrm>
            <a:off x="357120" y="142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4" name="Imagem 8" descr="Energy Choice Logo"/>
          <p:cNvPicPr/>
          <p:nvPr/>
        </p:nvPicPr>
        <p:blipFill>
          <a:blip r:embed="rId1"/>
          <a:stretch/>
        </p:blipFill>
        <p:spPr>
          <a:xfrm>
            <a:off x="142920" y="214200"/>
            <a:ext cx="1857240" cy="4716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10" descr=""/>
          <p:cNvPicPr/>
          <p:nvPr/>
        </p:nvPicPr>
        <p:blipFill>
          <a:blip r:embed="rId2"/>
          <a:stretch/>
        </p:blipFill>
        <p:spPr>
          <a:xfrm>
            <a:off x="0" y="1928880"/>
            <a:ext cx="9144000" cy="2820960"/>
          </a:xfrm>
          <a:prstGeom prst="rect">
            <a:avLst/>
          </a:prstGeom>
          <a:ln w="0">
            <a:noFill/>
          </a:ln>
        </p:spPr>
      </p:pic>
      <p:pic>
        <p:nvPicPr>
          <p:cNvPr id="856" name="Imagem 7" descr=""/>
          <p:cNvPicPr/>
          <p:nvPr/>
        </p:nvPicPr>
        <p:blipFill>
          <a:blip r:embed="rId3"/>
          <a:stretch/>
        </p:blipFill>
        <p:spPr>
          <a:xfrm>
            <a:off x="3786120" y="0"/>
            <a:ext cx="4429080" cy="26845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11" descr=""/>
          <p:cNvPicPr/>
          <p:nvPr/>
        </p:nvPicPr>
        <p:blipFill>
          <a:blip r:embed="rId4"/>
          <a:stretch/>
        </p:blipFill>
        <p:spPr>
          <a:xfrm>
            <a:off x="0" y="695160"/>
            <a:ext cx="3786120" cy="2090880"/>
          </a:xfrm>
          <a:prstGeom prst="rect">
            <a:avLst/>
          </a:prstGeom>
          <a:ln w="0">
            <a:noFill/>
          </a:ln>
        </p:spPr>
      </p:pic>
      <p:sp>
        <p:nvSpPr>
          <p:cNvPr id="858" name="Retângulo 17"/>
          <p:cNvSpPr/>
          <p:nvPr/>
        </p:nvSpPr>
        <p:spPr>
          <a:xfrm>
            <a:off x="2000160" y="142920"/>
            <a:ext cx="1785960" cy="6429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  <a:ea typeface="Arial"/>
              </a:rPr>
              <a:t>Id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  <a:ea typeface="Arial"/>
              </a:rPr>
              <a:t>Mobilid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Oval 9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Retângulo 2"/>
          <p:cNvSpPr/>
          <p:nvPr/>
        </p:nvSpPr>
        <p:spPr>
          <a:xfrm>
            <a:off x="0" y="4786200"/>
            <a:ext cx="9144000" cy="285840"/>
          </a:xfrm>
          <a:prstGeom prst="rect">
            <a:avLst/>
          </a:prstGeom>
          <a:solidFill>
            <a:srgbClr val="00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GEC 26 - </a:t>
            </a:r>
            <a:r>
              <a:rPr b="1" lang="pt-BR" sz="1200" spc="-1" strike="noStrike">
                <a:solidFill>
                  <a:srgbClr val="ffffff"/>
                </a:solidFill>
                <a:latin typeface="Arial Narrow"/>
              </a:rPr>
              <a:t>O COMPARTILHAMENTO DO DESENVOLVIMENTO E IMPLEMENTAÇÃO DE REDES... -  EDUARDO 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Retângulo 3"/>
          <p:cNvSpPr/>
          <p:nvPr/>
        </p:nvSpPr>
        <p:spPr>
          <a:xfrm>
            <a:off x="357120" y="142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2" name="Imagem 8" descr="Energy Choice Logo"/>
          <p:cNvPicPr/>
          <p:nvPr/>
        </p:nvPicPr>
        <p:blipFill>
          <a:blip r:embed="rId1"/>
          <a:stretch/>
        </p:blipFill>
        <p:spPr>
          <a:xfrm>
            <a:off x="142920" y="214200"/>
            <a:ext cx="1857240" cy="471600"/>
          </a:xfrm>
          <a:prstGeom prst="rect">
            <a:avLst/>
          </a:prstGeom>
          <a:ln w="0">
            <a:noFill/>
          </a:ln>
        </p:spPr>
      </p:pic>
      <p:grpSp>
        <p:nvGrpSpPr>
          <p:cNvPr id="863" name="Grupo 5"/>
          <p:cNvGrpSpPr/>
          <p:nvPr/>
        </p:nvGrpSpPr>
        <p:grpSpPr>
          <a:xfrm>
            <a:off x="142920" y="984240"/>
            <a:ext cx="8786880" cy="5435640"/>
            <a:chOff x="142920" y="984240"/>
            <a:chExt cx="8786880" cy="5435640"/>
          </a:xfrm>
        </p:grpSpPr>
        <p:pic>
          <p:nvPicPr>
            <p:cNvPr id="864" name="Imagem 6" descr=""/>
            <p:cNvPicPr/>
            <p:nvPr/>
          </p:nvPicPr>
          <p:blipFill>
            <a:blip r:embed="rId2"/>
            <a:stretch/>
          </p:blipFill>
          <p:spPr>
            <a:xfrm>
              <a:off x="142920" y="984240"/>
              <a:ext cx="8786880" cy="37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5" name="Retângulo de cantos arredondados 7"/>
            <p:cNvSpPr/>
            <p:nvPr/>
          </p:nvSpPr>
          <p:spPr>
            <a:xfrm>
              <a:off x="6329880" y="3907080"/>
              <a:ext cx="2314080" cy="450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300" spc="-1" strike="noStrike">
                  <a:solidFill>
                    <a:srgbClr val="00b0f0"/>
                  </a:solidFill>
                  <a:latin typeface="Arial"/>
                </a:rPr>
                <a:t>Nova Gestão 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300" spc="-1" strike="noStrike">
                  <a:solidFill>
                    <a:srgbClr val="00b0f0"/>
                  </a:solidFill>
                  <a:latin typeface="Arial"/>
                </a:rPr>
                <a:t>da Demanda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Retângulo de cantos arredondados 8"/>
            <p:cNvSpPr/>
            <p:nvPr/>
          </p:nvSpPr>
          <p:spPr>
            <a:xfrm>
              <a:off x="6428880" y="3357360"/>
              <a:ext cx="2286360" cy="576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b0f0"/>
                  </a:solidFill>
                  <a:latin typeface="Arial"/>
                </a:rPr>
                <a:t>Prosumido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Retângulo de cantos arredondados 10"/>
            <p:cNvSpPr/>
            <p:nvPr/>
          </p:nvSpPr>
          <p:spPr>
            <a:xfrm>
              <a:off x="5357880" y="2428560"/>
              <a:ext cx="1810080" cy="576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300" spc="-1" strike="noStrike">
                  <a:solidFill>
                    <a:srgbClr val="00b0f0"/>
                  </a:solidFill>
                  <a:latin typeface="Arial"/>
                </a:rPr>
                <a:t>Novo Jogo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300" spc="-1" strike="noStrike">
                  <a:solidFill>
                    <a:srgbClr val="00b0f0"/>
                  </a:solidFill>
                  <a:latin typeface="Arial"/>
                </a:rPr>
                <a:t>Oferta -Demanda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Retângulo de cantos arredondados 11"/>
            <p:cNvSpPr/>
            <p:nvPr/>
          </p:nvSpPr>
          <p:spPr>
            <a:xfrm>
              <a:off x="4572000" y="1856880"/>
              <a:ext cx="2571840" cy="576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b0f0"/>
                  </a:solidFill>
                  <a:latin typeface="Arial"/>
                </a:rPr>
                <a:t>Rede Inteligen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b0f0"/>
                  </a:solidFill>
                  <a:latin typeface="Arial"/>
                </a:rPr>
                <a:t>Nacion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Retângulo de cantos arredondados 12"/>
            <p:cNvSpPr/>
            <p:nvPr/>
          </p:nvSpPr>
          <p:spPr>
            <a:xfrm>
              <a:off x="4429080" y="1285200"/>
              <a:ext cx="3071880" cy="576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b0f0"/>
                  </a:solidFill>
                  <a:latin typeface="Arial"/>
                </a:rPr>
                <a:t>Criação 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b0f0"/>
                  </a:solidFill>
                  <a:latin typeface="Arial"/>
                </a:rPr>
                <a:t> “</a:t>
              </a:r>
              <a:r>
                <a:rPr b="1" lang="pt-BR" sz="1400" spc="-1" strike="noStrike">
                  <a:solidFill>
                    <a:srgbClr val="00b0f0"/>
                  </a:solidFill>
                  <a:latin typeface="Arial"/>
                </a:rPr>
                <a:t>Internet da Energia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Retângulo 13"/>
            <p:cNvSpPr/>
            <p:nvPr/>
          </p:nvSpPr>
          <p:spPr>
            <a:xfrm>
              <a:off x="3332160" y="6094800"/>
              <a:ext cx="4096800" cy="3250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1" name="Retângulo 14"/>
          <p:cNvSpPr/>
          <p:nvPr/>
        </p:nvSpPr>
        <p:spPr>
          <a:xfrm>
            <a:off x="2571840" y="4572000"/>
            <a:ext cx="26431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Retângulo 15"/>
          <p:cNvSpPr/>
          <p:nvPr/>
        </p:nvSpPr>
        <p:spPr>
          <a:xfrm>
            <a:off x="2786040" y="714240"/>
            <a:ext cx="3357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Retângulo 16"/>
          <p:cNvSpPr/>
          <p:nvPr/>
        </p:nvSpPr>
        <p:spPr>
          <a:xfrm>
            <a:off x="2214720" y="285840"/>
            <a:ext cx="5143320" cy="6429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ESTRATÉGIA DE IMPLEMENTAÇÃO DA CEE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tângulo 7"/>
          <p:cNvSpPr/>
          <p:nvPr/>
        </p:nvSpPr>
        <p:spPr>
          <a:xfrm>
            <a:off x="7215120" y="2000160"/>
            <a:ext cx="1785960" cy="16430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Oval 15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etângulo 2"/>
          <p:cNvSpPr/>
          <p:nvPr/>
        </p:nvSpPr>
        <p:spPr>
          <a:xfrm>
            <a:off x="0" y="4786200"/>
            <a:ext cx="9144000" cy="285840"/>
          </a:xfrm>
          <a:prstGeom prst="rect">
            <a:avLst/>
          </a:prstGeom>
          <a:solidFill>
            <a:srgbClr val="00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GEC 26 - </a:t>
            </a:r>
            <a:r>
              <a:rPr b="1" lang="pt-BR" sz="1200" spc="-1" strike="noStrike">
                <a:solidFill>
                  <a:srgbClr val="ffffff"/>
                </a:solidFill>
                <a:latin typeface="Arial Narrow"/>
              </a:rPr>
              <a:t>O COMPARTILHAMENTO DO DESENVOLVIMENTO E IMPLEMENTAÇÃO DE REDES... -  EDUARDO 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etângulo 3"/>
          <p:cNvSpPr/>
          <p:nvPr/>
        </p:nvSpPr>
        <p:spPr>
          <a:xfrm>
            <a:off x="357120" y="142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8" name="Imagem 8" descr="Energy Choice Logo"/>
          <p:cNvPicPr/>
          <p:nvPr/>
        </p:nvPicPr>
        <p:blipFill>
          <a:blip r:embed="rId1"/>
          <a:stretch/>
        </p:blipFill>
        <p:spPr>
          <a:xfrm>
            <a:off x="71280" y="142920"/>
            <a:ext cx="1857600" cy="47160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6" descr=""/>
          <p:cNvPicPr/>
          <p:nvPr/>
        </p:nvPicPr>
        <p:blipFill>
          <a:blip r:embed="rId2"/>
          <a:stretch/>
        </p:blipFill>
        <p:spPr>
          <a:xfrm>
            <a:off x="1928880" y="71280"/>
            <a:ext cx="5143320" cy="4672080"/>
          </a:xfrm>
          <a:prstGeom prst="rect">
            <a:avLst/>
          </a:prstGeom>
          <a:ln w="0">
            <a:noFill/>
          </a:ln>
        </p:spPr>
      </p:pic>
      <p:sp>
        <p:nvSpPr>
          <p:cNvPr id="880" name="Retângulo 6"/>
          <p:cNvSpPr/>
          <p:nvPr/>
        </p:nvSpPr>
        <p:spPr>
          <a:xfrm>
            <a:off x="7072200" y="1428840"/>
            <a:ext cx="207180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"/>
                <a:ea typeface="Arial"/>
              </a:rPr>
              <a:t>ESTRATÉ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"/>
                <a:ea typeface="Arial"/>
              </a:rPr>
              <a:t>IMPLEMEN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cc"/>
                </a:solidFill>
                <a:latin typeface="Arial"/>
                <a:ea typeface="Arial"/>
              </a:rPr>
              <a:t>COORDEN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cc"/>
                </a:solidFill>
                <a:latin typeface="Arial"/>
                <a:ea typeface="Arial"/>
              </a:rPr>
              <a:t>CO-OPERA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cc"/>
                </a:solidFill>
                <a:latin typeface="Arial"/>
                <a:ea typeface="Arial"/>
              </a:rPr>
              <a:t>OTIMIZ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Oval 17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2" name="Picture 2" descr="C:\Users\WallE\Desktop\Sem Título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83" name="Rectangle 19"/>
          <p:cNvSpPr/>
          <p:nvPr/>
        </p:nvSpPr>
        <p:spPr>
          <a:xfrm>
            <a:off x="1403280" y="1563840"/>
            <a:ext cx="37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Arial"/>
                <a:ea typeface="Arial"/>
              </a:rPr>
              <a:t>EDUARDO N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Rectangle 22"/>
          <p:cNvSpPr/>
          <p:nvPr/>
        </p:nvSpPr>
        <p:spPr>
          <a:xfrm>
            <a:off x="1784520" y="2792520"/>
            <a:ext cx="26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(</a:t>
            </a:r>
            <a:r>
              <a:rPr b="0" lang="pt-BR" sz="1800" spc="-1" strike="noStrike">
                <a:solidFill>
                  <a:srgbClr val="003300"/>
                </a:solidFill>
                <a:latin typeface="Arial"/>
                <a:ea typeface="Arial"/>
              </a:rPr>
              <a:t>31) 99953-63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Rectangle 25"/>
          <p:cNvSpPr/>
          <p:nvPr/>
        </p:nvSpPr>
        <p:spPr>
          <a:xfrm>
            <a:off x="1784520" y="3549600"/>
            <a:ext cx="39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Arial"/>
                <a:ea typeface="Arial"/>
              </a:rPr>
              <a:t>enery@energychoice.com.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26"/>
          <p:cNvSpPr/>
          <p:nvPr/>
        </p:nvSpPr>
        <p:spPr>
          <a:xfrm>
            <a:off x="1784520" y="2178000"/>
            <a:ext cx="26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(</a:t>
            </a:r>
            <a:r>
              <a:rPr b="0" lang="pt-BR" sz="1800" spc="-1" strike="noStrike">
                <a:solidFill>
                  <a:srgbClr val="003300"/>
                </a:solidFill>
                <a:latin typeface="Arial"/>
                <a:ea typeface="Arial"/>
              </a:rPr>
              <a:t>31) 3291-78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Rectangle 27"/>
          <p:cNvSpPr/>
          <p:nvPr/>
        </p:nvSpPr>
        <p:spPr>
          <a:xfrm>
            <a:off x="1784520" y="4017960"/>
            <a:ext cx="32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Arial"/>
                <a:ea typeface="Arial"/>
              </a:rPr>
              <a:t>www.energychoice.com.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8" name="Picture 3" descr="C:\Users\WallE\Desktop\e-mail-envelope.png"/>
          <p:cNvPicPr/>
          <p:nvPr/>
        </p:nvPicPr>
        <p:blipFill>
          <a:blip r:embed="rId2"/>
          <a:stretch/>
        </p:blipFill>
        <p:spPr>
          <a:xfrm>
            <a:off x="1403280" y="3478320"/>
            <a:ext cx="249480" cy="2505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4" descr="C:\Users\WallE\Desktop\whatsapp-logo.png"/>
          <p:cNvPicPr/>
          <p:nvPr/>
        </p:nvPicPr>
        <p:blipFill>
          <a:blip r:embed="rId3"/>
          <a:stretch/>
        </p:blipFill>
        <p:spPr>
          <a:xfrm>
            <a:off x="1403280" y="2849400"/>
            <a:ext cx="281160" cy="28116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5" descr="C:\Users\WallE\Desktop\phone-call.png"/>
          <p:cNvPicPr/>
          <p:nvPr/>
        </p:nvPicPr>
        <p:blipFill>
          <a:blip r:embed="rId4"/>
          <a:stretch/>
        </p:blipFill>
        <p:spPr>
          <a:xfrm>
            <a:off x="1403280" y="222552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6" descr="C:\Users\WallE\Desktop\screen.png"/>
          <p:cNvPicPr/>
          <p:nvPr/>
        </p:nvPicPr>
        <p:blipFill>
          <a:blip r:embed="rId5"/>
          <a:stretch/>
        </p:blipFill>
        <p:spPr>
          <a:xfrm>
            <a:off x="1403280" y="4076640"/>
            <a:ext cx="252360" cy="252360"/>
          </a:xfrm>
          <a:prstGeom prst="rect">
            <a:avLst/>
          </a:prstGeom>
          <a:ln w="0">
            <a:noFill/>
          </a:ln>
        </p:spPr>
      </p:pic>
      <p:sp>
        <p:nvSpPr>
          <p:cNvPr id="892" name="Straight Connector 32"/>
          <p:cNvSpPr/>
          <p:nvPr/>
        </p:nvSpPr>
        <p:spPr>
          <a:xfrm>
            <a:off x="-36360" y="1971720"/>
            <a:ext cx="45021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Elipse 13"/>
          <p:cNvSpPr/>
          <p:nvPr/>
        </p:nvSpPr>
        <p:spPr>
          <a:xfrm>
            <a:off x="4189320" y="285840"/>
            <a:ext cx="2739960" cy="1554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muito obrigad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pela atenção 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Oval 8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Retângulo 6"/>
          <p:cNvSpPr/>
          <p:nvPr/>
        </p:nvSpPr>
        <p:spPr>
          <a:xfrm>
            <a:off x="214200" y="214200"/>
            <a:ext cx="164304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Imagem 8" descr="Energy Choice Logo"/>
          <p:cNvPicPr/>
          <p:nvPr/>
        </p:nvPicPr>
        <p:blipFill>
          <a:blip r:embed="rId1"/>
          <a:stretch/>
        </p:blipFill>
        <p:spPr>
          <a:xfrm>
            <a:off x="71280" y="214200"/>
            <a:ext cx="1857600" cy="471600"/>
          </a:xfrm>
          <a:prstGeom prst="rect">
            <a:avLst/>
          </a:prstGeom>
          <a:ln w="0">
            <a:noFill/>
          </a:ln>
        </p:spPr>
      </p:pic>
      <p:sp>
        <p:nvSpPr>
          <p:cNvPr id="704" name="Retângulo 7"/>
          <p:cNvSpPr/>
          <p:nvPr/>
        </p:nvSpPr>
        <p:spPr>
          <a:xfrm>
            <a:off x="0" y="4786200"/>
            <a:ext cx="9144000" cy="285840"/>
          </a:xfrm>
          <a:prstGeom prst="rect">
            <a:avLst/>
          </a:prstGeom>
          <a:solidFill>
            <a:srgbClr val="0066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GEC 26 - </a:t>
            </a:r>
            <a:r>
              <a:rPr b="1" lang="pt-BR" sz="1200" spc="-1" strike="noStrike">
                <a:solidFill>
                  <a:srgbClr val="ffffff"/>
                </a:solidFill>
                <a:latin typeface="Arial Narrow"/>
              </a:rPr>
              <a:t>O COMPARTILHAMENTO DO DESENVOLVIMENTO E IMPLEMENTAÇÃO DE REDES... -  EDUARDO 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8" descr=""/>
          <p:cNvPicPr/>
          <p:nvPr/>
        </p:nvPicPr>
        <p:blipFill>
          <a:blip r:embed="rId2"/>
          <a:stretch/>
        </p:blipFill>
        <p:spPr>
          <a:xfrm>
            <a:off x="2000160" y="85680"/>
            <a:ext cx="5715000" cy="4627440"/>
          </a:xfrm>
          <a:prstGeom prst="rect">
            <a:avLst/>
          </a:prstGeom>
          <a:ln w="0">
            <a:noFill/>
          </a:ln>
        </p:spPr>
      </p:pic>
      <p:sp>
        <p:nvSpPr>
          <p:cNvPr id="706" name="Retângulo 9"/>
          <p:cNvSpPr/>
          <p:nvPr/>
        </p:nvSpPr>
        <p:spPr>
          <a:xfrm>
            <a:off x="7143840" y="3714840"/>
            <a:ext cx="2000160" cy="785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  <a:ea typeface="Arial"/>
              </a:rPr>
              <a:t>MOVIMENTOS EM CUR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Oval 12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tângulo 8"/>
          <p:cNvSpPr/>
          <p:nvPr/>
        </p:nvSpPr>
        <p:spPr>
          <a:xfrm>
            <a:off x="0" y="4857840"/>
            <a:ext cx="9144000" cy="285840"/>
          </a:xfrm>
          <a:prstGeom prst="rect">
            <a:avLst/>
          </a:prstGeom>
          <a:solidFill>
            <a:srgbClr val="0066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GEC 26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pt-BR" sz="1200" spc="-1" strike="noStrike">
                <a:solidFill>
                  <a:srgbClr val="ffffff"/>
                </a:solidFill>
                <a:latin typeface="Arial Narrow"/>
              </a:rPr>
              <a:t>O COMPARTILHAMENTO DO DESENVOLVIMENTO E IMPLEMENTAÇÃO DE REDES... -  EDUARDO 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Retângulo 9"/>
          <p:cNvSpPr/>
          <p:nvPr/>
        </p:nvSpPr>
        <p:spPr>
          <a:xfrm>
            <a:off x="500040" y="21420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Imagem 8" descr="Energy Choice Logo"/>
          <p:cNvPicPr/>
          <p:nvPr/>
        </p:nvPicPr>
        <p:blipFill>
          <a:blip r:embed="rId1"/>
          <a:stretch/>
        </p:blipFill>
        <p:spPr>
          <a:xfrm>
            <a:off x="142920" y="214200"/>
            <a:ext cx="1857240" cy="471600"/>
          </a:xfrm>
          <a:prstGeom prst="rect">
            <a:avLst/>
          </a:prstGeom>
          <a:ln w="0">
            <a:noFill/>
          </a:ln>
        </p:spPr>
      </p:pic>
      <p:sp>
        <p:nvSpPr>
          <p:cNvPr id="711" name="CaixaDeTexto 36"/>
          <p:cNvSpPr/>
          <p:nvPr/>
        </p:nvSpPr>
        <p:spPr>
          <a:xfrm>
            <a:off x="5501520" y="4924440"/>
            <a:ext cx="25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595959"/>
                </a:solidFill>
                <a:latin typeface="Arial"/>
                <a:ea typeface="Arial"/>
              </a:rPr>
              <a:t>Fonte: A. T. Kerny Analysis modifica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214200" y="1306440"/>
          <a:ext cx="7704360" cy="3247920"/>
        </p:xfrm>
        <a:graphic>
          <a:graphicData uri="http://schemas.openxmlformats.org/drawingml/2006/table">
            <a:tbl>
              <a:tblPr/>
              <a:tblGrid>
                <a:gridCol w="2664000"/>
                <a:gridCol w="2592360"/>
                <a:gridCol w="2448000"/>
              </a:tblGrid>
              <a:tr h="2652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8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POLÍTICAS POUCO DEFIN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8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POUCA BASE REGULATÓ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8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PROJETOS PARCI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8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PILOTOS PLANEJ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8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INEFICIÊNCIA OPERAC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8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IMPULSIONADO INCENTIV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8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VOLTADOS PARA DENT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8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SEM VÍNCULOS PERSIST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8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ff99"/>
                        </a:gs>
                        <a:gs pos="50000">
                          <a:srgbClr val="ffffff"/>
                        </a:gs>
                        <a:gs pos="100000">
                          <a:srgbClr val="99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DIRETRIZ NACIONAL PROMO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MOVIMENTOS ESTRUTUR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USA-SE O MAPA DE RO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INVERSÕES EM GD E P&amp;D&amp;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COMEÇA O DESDOBRA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ANCORAGENS EXTERN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FUNDING FAVORECI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ESTIMULA DESENVOLV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ABERTURA PARA OUT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ff99"/>
                        </a:gs>
                        <a:gs pos="50000">
                          <a:srgbClr val="ffffff"/>
                        </a:gs>
                        <a:gs pos="100000">
                          <a:srgbClr val="99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DIRETRIZ NACIONAL DEFINE METAS E INVERSÕ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INVERSÕES PELOS AGENTES DE MER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MERCADO ABER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LINHAS CRÉDITO REGULA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MULTIPLICAÇÃO START U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GIRO E REALIMENT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ff99"/>
                        </a:gs>
                        <a:gs pos="50000">
                          <a:srgbClr val="ffffff"/>
                        </a:gs>
                        <a:gs pos="100000">
                          <a:srgbClr val="99ff99"/>
                        </a:gs>
                      </a:gsLst>
                      <a:lin ang="5400000"/>
                    </a:gradFill>
                  </a:tcPr>
                </a:tc>
              </a:tr>
              <a:tr h="59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JETOS PIONEI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50000">
                          <a:srgbClr val="ffffff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JETOS PILO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50000">
                          <a:srgbClr val="ffffff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 algn="ctr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S EM SÉRIE COM INTEGRAÇÃO COOPER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50000">
                          <a:srgbClr val="ffffff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713" name="Seta para a direita 38"/>
          <p:cNvSpPr/>
          <p:nvPr/>
        </p:nvSpPr>
        <p:spPr>
          <a:xfrm>
            <a:off x="214200" y="563400"/>
            <a:ext cx="8209080" cy="936720"/>
          </a:xfrm>
          <a:prstGeom prst="rightArrow">
            <a:avLst>
              <a:gd name="adj1" fmla="val 50000"/>
              <a:gd name="adj2" fmla="val 49985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255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CaixaDeTexto 39"/>
          <p:cNvSpPr/>
          <p:nvPr/>
        </p:nvSpPr>
        <p:spPr>
          <a:xfrm>
            <a:off x="941040" y="92880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cc"/>
                </a:solidFill>
                <a:latin typeface="Arial"/>
                <a:ea typeface="Arial"/>
              </a:rPr>
              <a:t>EMBRIONÁR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CaixaDeTexto 40"/>
          <p:cNvSpPr/>
          <p:nvPr/>
        </p:nvSpPr>
        <p:spPr>
          <a:xfrm>
            <a:off x="3601080" y="92880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cc"/>
                </a:solidFill>
                <a:latin typeface="Arial"/>
                <a:ea typeface="Arial"/>
              </a:rPr>
              <a:t>MATUR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CaixaDeTexto 41"/>
          <p:cNvSpPr/>
          <p:nvPr/>
        </p:nvSpPr>
        <p:spPr>
          <a:xfrm>
            <a:off x="6340680" y="928800"/>
            <a:ext cx="9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cc"/>
                </a:solidFill>
                <a:latin typeface="Arial"/>
                <a:ea typeface="Arial"/>
              </a:rPr>
              <a:t>MADUR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tângulo 11"/>
          <p:cNvSpPr/>
          <p:nvPr/>
        </p:nvSpPr>
        <p:spPr>
          <a:xfrm>
            <a:off x="2500200" y="142920"/>
            <a:ext cx="5000760" cy="5000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  <a:ea typeface="Arial"/>
              </a:rPr>
              <a:t>ETAPAS DA IMPLEMENTAÇ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Oval 10"/>
          <p:cNvSpPr/>
          <p:nvPr/>
        </p:nvSpPr>
        <p:spPr>
          <a:xfrm>
            <a:off x="6653160" y="4948200"/>
            <a:ext cx="61920" cy="52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tângulo 4"/>
          <p:cNvSpPr/>
          <p:nvPr/>
        </p:nvSpPr>
        <p:spPr>
          <a:xfrm>
            <a:off x="0" y="4786200"/>
            <a:ext cx="9144000" cy="285840"/>
          </a:xfrm>
          <a:prstGeom prst="rect">
            <a:avLst/>
          </a:prstGeom>
          <a:solidFill>
            <a:srgbClr val="0066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GEC 26 - </a:t>
            </a:r>
            <a:r>
              <a:rPr b="1" lang="pt-BR" sz="1200" spc="-1" strike="noStrike">
                <a:solidFill>
                  <a:srgbClr val="ffffff"/>
                </a:solidFill>
                <a:latin typeface="Arial Narrow"/>
              </a:rPr>
              <a:t>O COMPARTILHAMENTO DO DESENVOLVIMENTO E IMPLEMENTAÇÃO DE REDES... -  EDUARDO 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tângulo 5"/>
          <p:cNvSpPr/>
          <p:nvPr/>
        </p:nvSpPr>
        <p:spPr>
          <a:xfrm>
            <a:off x="357120" y="142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Imagem 8" descr="Energy Choice Logo"/>
          <p:cNvPicPr/>
          <p:nvPr/>
        </p:nvPicPr>
        <p:blipFill>
          <a:blip r:embed="rId1"/>
          <a:stretch/>
        </p:blipFill>
        <p:spPr>
          <a:xfrm>
            <a:off x="0" y="71280"/>
            <a:ext cx="1857240" cy="471600"/>
          </a:xfrm>
          <a:prstGeom prst="rect">
            <a:avLst/>
          </a:prstGeom>
          <a:ln w="0">
            <a:noFill/>
          </a:ln>
        </p:spPr>
      </p:pic>
      <p:pic>
        <p:nvPicPr>
          <p:cNvPr id="722" name="Espaço Reservado para Conteúdo 1" descr=""/>
          <p:cNvPicPr/>
          <p:nvPr/>
        </p:nvPicPr>
        <p:blipFill>
          <a:blip r:embed="rId2"/>
          <a:stretch/>
        </p:blipFill>
        <p:spPr>
          <a:xfrm>
            <a:off x="3143160" y="571680"/>
            <a:ext cx="3872160" cy="4143240"/>
          </a:xfrm>
          <a:prstGeom prst="rect">
            <a:avLst/>
          </a:prstGeom>
          <a:ln w="0">
            <a:noFill/>
          </a:ln>
        </p:spPr>
      </p:pic>
      <p:pic>
        <p:nvPicPr>
          <p:cNvPr id="723" name="Fluxograma: Vários documentos 8" descr=""/>
          <p:cNvPicPr/>
          <p:nvPr/>
        </p:nvPicPr>
        <p:blipFill>
          <a:blip r:embed="rId3"/>
          <a:stretch/>
        </p:blipFill>
        <p:spPr>
          <a:xfrm>
            <a:off x="1773360" y="2371680"/>
            <a:ext cx="1092240" cy="1036800"/>
          </a:xfrm>
          <a:prstGeom prst="rect">
            <a:avLst/>
          </a:prstGeom>
          <a:ln w="0">
            <a:noFill/>
          </a:ln>
        </p:spPr>
      </p:pic>
      <p:sp>
        <p:nvSpPr>
          <p:cNvPr id="724" name="Fluxograma: Vários documentos 9"/>
          <p:cNvSpPr/>
          <p:nvPr/>
        </p:nvSpPr>
        <p:spPr>
          <a:xfrm>
            <a:off x="1792440" y="3705120"/>
            <a:ext cx="1403280" cy="878040"/>
          </a:xfrm>
          <a:prstGeom prst="flowChartMultidocument">
            <a:avLst/>
          </a:prstGeom>
          <a:gradFill rotWithShape="0">
            <a:gsLst>
              <a:gs pos="0">
                <a:srgbClr val="3366cc"/>
              </a:gs>
              <a:gs pos="50000">
                <a:srgbClr val="ffffff"/>
              </a:gs>
              <a:gs pos="100000">
                <a:srgbClr val="3366c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luxograma: Vários documentos 11"/>
          <p:cNvSpPr/>
          <p:nvPr/>
        </p:nvSpPr>
        <p:spPr>
          <a:xfrm>
            <a:off x="1494000" y="3792600"/>
            <a:ext cx="1403280" cy="758880"/>
          </a:xfrm>
          <a:prstGeom prst="flowChartMultidocument">
            <a:avLst/>
          </a:prstGeom>
          <a:gradFill rotWithShape="0">
            <a:gsLst>
              <a:gs pos="0">
                <a:srgbClr val="3366cc"/>
              </a:gs>
              <a:gs pos="50000">
                <a:srgbClr val="ffffff"/>
              </a:gs>
              <a:gs pos="100000">
                <a:srgbClr val="3366c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Conector reto 12"/>
          <p:cNvSpPr/>
          <p:nvPr/>
        </p:nvSpPr>
        <p:spPr>
          <a:xfrm>
            <a:off x="1704960" y="906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Grupo 13" descr=""/>
          <p:cNvPicPr/>
          <p:nvPr/>
        </p:nvPicPr>
        <p:blipFill>
          <a:blip r:embed="rId4"/>
          <a:stretch/>
        </p:blipFill>
        <p:spPr>
          <a:xfrm>
            <a:off x="1547640" y="914400"/>
            <a:ext cx="1328760" cy="1311120"/>
          </a:xfrm>
          <a:prstGeom prst="rect">
            <a:avLst/>
          </a:prstGeom>
          <a:ln w="0">
            <a:noFill/>
          </a:ln>
        </p:spPr>
      </p:pic>
      <p:sp>
        <p:nvSpPr>
          <p:cNvPr id="728" name="CaixaDeTexto 16"/>
          <p:cNvSpPr/>
          <p:nvPr/>
        </p:nvSpPr>
        <p:spPr>
          <a:xfrm>
            <a:off x="7259400" y="1395360"/>
            <a:ext cx="85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00000"/>
                </a:solidFill>
                <a:latin typeface="Arial"/>
                <a:ea typeface="Arial"/>
              </a:rPr>
              <a:t>SIST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00000"/>
                </a:solidFill>
                <a:latin typeface="Arial"/>
                <a:ea typeface="Arial"/>
              </a:rPr>
              <a:t>URB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CaixaDeTexto 17"/>
          <p:cNvSpPr/>
          <p:nvPr/>
        </p:nvSpPr>
        <p:spPr>
          <a:xfrm>
            <a:off x="6869520" y="2639880"/>
            <a:ext cx="137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00"/>
                </a:solidFill>
                <a:latin typeface="Arial"/>
                <a:ea typeface="Arial"/>
              </a:rPr>
              <a:t>SIST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00"/>
                </a:solidFill>
                <a:latin typeface="Arial"/>
                <a:ea typeface="Arial"/>
              </a:rPr>
              <a:t>INFORMAÇÃO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00"/>
                </a:solidFill>
                <a:latin typeface="Arial"/>
                <a:ea typeface="Arial"/>
              </a:rPr>
              <a:t>COMUNICAÇÃ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CaixaDeTexto 18"/>
          <p:cNvSpPr/>
          <p:nvPr/>
        </p:nvSpPr>
        <p:spPr>
          <a:xfrm>
            <a:off x="6616440" y="3967200"/>
            <a:ext cx="180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2060"/>
                </a:solidFill>
                <a:latin typeface="Arial"/>
                <a:ea typeface="Arial"/>
              </a:rPr>
              <a:t>SIST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2060"/>
                </a:solidFill>
                <a:latin typeface="Arial"/>
                <a:ea typeface="Arial"/>
              </a:rPr>
              <a:t>ELETROENERGÉT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Retângulo 16"/>
          <p:cNvSpPr/>
          <p:nvPr/>
        </p:nvSpPr>
        <p:spPr>
          <a:xfrm>
            <a:off x="2000160" y="71280"/>
            <a:ext cx="5929560" cy="4287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030a0"/>
                </a:solidFill>
                <a:latin typeface="Arial"/>
                <a:ea typeface="Arial"/>
              </a:rPr>
              <a:t>ESTRUTURAS COMPARTILHAD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Oval 13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tângulo 4"/>
          <p:cNvSpPr/>
          <p:nvPr/>
        </p:nvSpPr>
        <p:spPr>
          <a:xfrm>
            <a:off x="0" y="4786200"/>
            <a:ext cx="9144000" cy="285840"/>
          </a:xfrm>
          <a:prstGeom prst="rect">
            <a:avLst/>
          </a:prstGeom>
          <a:solidFill>
            <a:srgbClr val="00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GEC 26 - </a:t>
            </a:r>
            <a:r>
              <a:rPr b="1" lang="pt-BR" sz="1200" spc="-1" strike="noStrike">
                <a:solidFill>
                  <a:srgbClr val="ffffff"/>
                </a:solidFill>
                <a:latin typeface="Arial Narrow"/>
              </a:rPr>
              <a:t>O COMPARTILHAMENTO DO DESENVOLVIMENTO E IMPLEMENTAÇÃO DE REDES... -  EDUARDO 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Retângulo 5"/>
          <p:cNvSpPr/>
          <p:nvPr/>
        </p:nvSpPr>
        <p:spPr>
          <a:xfrm>
            <a:off x="357120" y="142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5" name="Imagem 8" descr="Energy Choice Logo"/>
          <p:cNvPicPr/>
          <p:nvPr/>
        </p:nvPicPr>
        <p:blipFill>
          <a:blip r:embed="rId1"/>
          <a:stretch/>
        </p:blipFill>
        <p:spPr>
          <a:xfrm>
            <a:off x="142920" y="214200"/>
            <a:ext cx="1857240" cy="471600"/>
          </a:xfrm>
          <a:prstGeom prst="rect">
            <a:avLst/>
          </a:prstGeom>
          <a:ln w="0">
            <a:noFill/>
          </a:ln>
        </p:spPr>
      </p:pic>
      <p:sp>
        <p:nvSpPr>
          <p:cNvPr id="736" name="Retângulo 72"/>
          <p:cNvSpPr/>
          <p:nvPr/>
        </p:nvSpPr>
        <p:spPr>
          <a:xfrm>
            <a:off x="214200" y="1571760"/>
            <a:ext cx="2143080" cy="29289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  <a:ea typeface="Arial"/>
              </a:rPr>
              <a:t>CIDADE INTELIG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  <a:ea typeface="Arial"/>
              </a:rPr>
              <a:t>áreas prioritári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  <a:ea typeface="Arial"/>
              </a:rPr>
              <a:t>conteúd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  <a:ea typeface="Arial"/>
              </a:rPr>
              <a:t>direcionament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  <a:ea typeface="Arial"/>
              </a:rPr>
              <a:t>sistemas e re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  <a:ea typeface="Arial"/>
              </a:rPr>
              <a:t>métrica: indicado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  <a:ea typeface="Arial"/>
              </a:rPr>
              <a:t>participação e.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eta para baixo 73"/>
          <p:cNvSpPr/>
          <p:nvPr/>
        </p:nvSpPr>
        <p:spPr>
          <a:xfrm>
            <a:off x="1000080" y="3286080"/>
            <a:ext cx="484200" cy="5493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tângulo 74"/>
          <p:cNvSpPr/>
          <p:nvPr/>
        </p:nvSpPr>
        <p:spPr>
          <a:xfrm>
            <a:off x="2857680" y="785880"/>
            <a:ext cx="3286080" cy="7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9" name="Grupo 7"/>
          <p:cNvGrpSpPr/>
          <p:nvPr/>
        </p:nvGrpSpPr>
        <p:grpSpPr>
          <a:xfrm>
            <a:off x="2786040" y="162000"/>
            <a:ext cx="5527800" cy="4552920"/>
            <a:chOff x="2786040" y="162000"/>
            <a:chExt cx="5527800" cy="4552920"/>
          </a:xfrm>
        </p:grpSpPr>
        <p:sp>
          <p:nvSpPr>
            <p:cNvPr id="740" name="Elipse 8"/>
            <p:cNvSpPr/>
            <p:nvPr/>
          </p:nvSpPr>
          <p:spPr>
            <a:xfrm>
              <a:off x="2786040" y="162000"/>
              <a:ext cx="5527800" cy="4552920"/>
            </a:xfrm>
            <a:prstGeom prst="ellipse">
              <a:avLst/>
            </a:prstGeom>
            <a:solidFill>
              <a:srgbClr val="7f7f7f"/>
            </a:solidFill>
            <a:ln w="12600">
              <a:solidFill>
                <a:srgbClr val="000000"/>
              </a:solidFill>
              <a:miter/>
            </a:ln>
            <a:effectLst>
              <a:outerShdw dist="89095" dir="2700000" blurRad="0" rotWithShape="0">
                <a:srgbClr val="7f7f7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1" name="Grupo 2060"/>
            <p:cNvGrpSpPr/>
            <p:nvPr/>
          </p:nvGrpSpPr>
          <p:grpSpPr>
            <a:xfrm>
              <a:off x="3174480" y="604800"/>
              <a:ext cx="4750560" cy="3666960"/>
              <a:chOff x="3174480" y="604800"/>
              <a:chExt cx="4750560" cy="3666960"/>
            </a:xfrm>
          </p:grpSpPr>
          <p:sp>
            <p:nvSpPr>
              <p:cNvPr id="742" name="Freeform 27"/>
              <p:cNvSpPr/>
              <p:nvPr/>
            </p:nvSpPr>
            <p:spPr>
              <a:xfrm>
                <a:off x="5549760" y="604800"/>
                <a:ext cx="807480" cy="1833480"/>
              </a:xfrm>
              <a:prstGeom prst="pie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Freeform 28"/>
              <p:cNvSpPr/>
              <p:nvPr/>
            </p:nvSpPr>
            <p:spPr>
              <a:xfrm>
                <a:off x="5549760" y="714960"/>
                <a:ext cx="1518840" cy="1722960"/>
              </a:xfrm>
              <a:prstGeom prst="pie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Freeform 29"/>
              <p:cNvSpPr/>
              <p:nvPr/>
            </p:nvSpPr>
            <p:spPr>
              <a:xfrm>
                <a:off x="5549760" y="1033200"/>
                <a:ext cx="2046600" cy="1405080"/>
              </a:xfrm>
              <a:prstGeom prst="pie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Freeform 30"/>
              <p:cNvSpPr/>
              <p:nvPr/>
            </p:nvSpPr>
            <p:spPr>
              <a:xfrm>
                <a:off x="5549760" y="1521000"/>
                <a:ext cx="2326680" cy="917280"/>
              </a:xfrm>
              <a:prstGeom prst="pie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Freeform 31"/>
              <p:cNvSpPr/>
              <p:nvPr/>
            </p:nvSpPr>
            <p:spPr>
              <a:xfrm>
                <a:off x="5549760" y="2118960"/>
                <a:ext cx="2375280" cy="637200"/>
              </a:xfrm>
              <a:prstGeom prst="pie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Freeform 32"/>
              <p:cNvSpPr/>
              <p:nvPr/>
            </p:nvSpPr>
            <p:spPr>
              <a:xfrm>
                <a:off x="5549760" y="2438280"/>
                <a:ext cx="2326680" cy="916200"/>
              </a:xfrm>
              <a:prstGeom prst="pie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Freeform 33"/>
              <p:cNvSpPr/>
              <p:nvPr/>
            </p:nvSpPr>
            <p:spPr>
              <a:xfrm>
                <a:off x="5549760" y="2438280"/>
                <a:ext cx="2046600" cy="1404000"/>
              </a:xfrm>
              <a:prstGeom prst="pie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Freeform 34"/>
              <p:cNvSpPr/>
              <p:nvPr/>
            </p:nvSpPr>
            <p:spPr>
              <a:xfrm>
                <a:off x="5549760" y="2438280"/>
                <a:ext cx="1518840" cy="1721880"/>
              </a:xfrm>
              <a:prstGeom prst="pie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Freeform 35"/>
              <p:cNvSpPr/>
              <p:nvPr/>
            </p:nvSpPr>
            <p:spPr>
              <a:xfrm>
                <a:off x="5549760" y="2438280"/>
                <a:ext cx="807480" cy="1833480"/>
              </a:xfrm>
              <a:prstGeom prst="pie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Freeform 36"/>
              <p:cNvSpPr/>
              <p:nvPr/>
            </p:nvSpPr>
            <p:spPr>
              <a:xfrm>
                <a:off x="4742280" y="2438280"/>
                <a:ext cx="807480" cy="1833480"/>
              </a:xfrm>
              <a:prstGeom prst="pie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Freeform 37"/>
              <p:cNvSpPr/>
              <p:nvPr/>
            </p:nvSpPr>
            <p:spPr>
              <a:xfrm>
                <a:off x="4030920" y="2438280"/>
                <a:ext cx="1518840" cy="1721880"/>
              </a:xfrm>
              <a:prstGeom prst="pie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Freeform 38"/>
              <p:cNvSpPr/>
              <p:nvPr/>
            </p:nvSpPr>
            <p:spPr>
              <a:xfrm>
                <a:off x="3503160" y="2438280"/>
                <a:ext cx="2046600" cy="1404000"/>
              </a:xfrm>
              <a:prstGeom prst="pie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Freeform 39"/>
              <p:cNvSpPr/>
              <p:nvPr/>
            </p:nvSpPr>
            <p:spPr>
              <a:xfrm>
                <a:off x="3221640" y="2438280"/>
                <a:ext cx="2328120" cy="916200"/>
              </a:xfrm>
              <a:prstGeom prst="pie">
                <a:avLst/>
              </a:prstGeom>
              <a:solidFill>
                <a:srgbClr val="cc99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Freeform 40"/>
              <p:cNvSpPr/>
              <p:nvPr/>
            </p:nvSpPr>
            <p:spPr>
              <a:xfrm>
                <a:off x="3174480" y="2118960"/>
                <a:ext cx="2375280" cy="637200"/>
              </a:xfrm>
              <a:prstGeom prst="pie">
                <a:avLst/>
              </a:prstGeom>
              <a:solidFill>
                <a:srgbClr val="cc99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Freeform 41"/>
              <p:cNvSpPr/>
              <p:nvPr/>
            </p:nvSpPr>
            <p:spPr>
              <a:xfrm>
                <a:off x="3221640" y="1521000"/>
                <a:ext cx="2328120" cy="917280"/>
              </a:xfrm>
              <a:prstGeom prst="pie">
                <a:avLst/>
              </a:prstGeom>
              <a:solidFill>
                <a:srgbClr val="cc99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Freeform 42"/>
              <p:cNvSpPr/>
              <p:nvPr/>
            </p:nvSpPr>
            <p:spPr>
              <a:xfrm>
                <a:off x="3503160" y="1033200"/>
                <a:ext cx="2046600" cy="1405080"/>
              </a:xfrm>
              <a:prstGeom prst="pie">
                <a:avLst/>
              </a:prstGeom>
              <a:solidFill>
                <a:srgbClr val="66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Freeform 43"/>
              <p:cNvSpPr/>
              <p:nvPr/>
            </p:nvSpPr>
            <p:spPr>
              <a:xfrm>
                <a:off x="4030920" y="714960"/>
                <a:ext cx="1518840" cy="1722960"/>
              </a:xfrm>
              <a:prstGeom prst="pie">
                <a:avLst/>
              </a:prstGeom>
              <a:solidFill>
                <a:srgbClr val="66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Freeform 44"/>
              <p:cNvSpPr/>
              <p:nvPr/>
            </p:nvSpPr>
            <p:spPr>
              <a:xfrm>
                <a:off x="4742280" y="604800"/>
                <a:ext cx="807480" cy="1833480"/>
              </a:xfrm>
              <a:prstGeom prst="pie">
                <a:avLst/>
              </a:prstGeom>
              <a:solidFill>
                <a:srgbClr val="66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0" name="CaixaDeTexto 10"/>
            <p:cNvSpPr/>
            <p:nvPr/>
          </p:nvSpPr>
          <p:spPr>
            <a:xfrm rot="16921200">
              <a:off x="5395680" y="853200"/>
              <a:ext cx="901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REENDER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&amp;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OVAR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1" name="Grupo 2061"/>
            <p:cNvGrpSpPr/>
            <p:nvPr/>
          </p:nvGrpSpPr>
          <p:grpSpPr>
            <a:xfrm>
              <a:off x="4369680" y="1521720"/>
              <a:ext cx="2360520" cy="1833480"/>
              <a:chOff x="4369680" y="1521720"/>
              <a:chExt cx="2360520" cy="1833480"/>
            </a:xfrm>
          </p:grpSpPr>
          <p:sp>
            <p:nvSpPr>
              <p:cNvPr id="762" name="Freeform 65"/>
              <p:cNvSpPr/>
              <p:nvPr/>
            </p:nvSpPr>
            <p:spPr>
              <a:xfrm>
                <a:off x="5550480" y="1525320"/>
                <a:ext cx="1017000" cy="912600"/>
              </a:xfrm>
              <a:prstGeom prst="pie">
                <a:avLst/>
              </a:prstGeom>
              <a:solidFill>
                <a:srgbClr val="6600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Freeform 66"/>
              <p:cNvSpPr/>
              <p:nvPr/>
            </p:nvSpPr>
            <p:spPr>
              <a:xfrm>
                <a:off x="5544360" y="1521720"/>
                <a:ext cx="1028880" cy="920880"/>
              </a:xfrm>
              <a:prstGeom prst="pi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Freeform 67"/>
              <p:cNvSpPr/>
              <p:nvPr/>
            </p:nvSpPr>
            <p:spPr>
              <a:xfrm>
                <a:off x="5550480" y="1981800"/>
                <a:ext cx="1173960" cy="913320"/>
              </a:xfrm>
              <a:prstGeom prst="pie">
                <a:avLst/>
              </a:prstGeom>
              <a:solidFill>
                <a:srgbClr val="008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Freeform 68"/>
              <p:cNvSpPr/>
              <p:nvPr/>
            </p:nvSpPr>
            <p:spPr>
              <a:xfrm>
                <a:off x="5544360" y="1977840"/>
                <a:ext cx="1185840" cy="920880"/>
              </a:xfrm>
              <a:prstGeom prst="pi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Freeform 69"/>
              <p:cNvSpPr/>
              <p:nvPr/>
            </p:nvSpPr>
            <p:spPr>
              <a:xfrm>
                <a:off x="5550480" y="2437920"/>
                <a:ext cx="1017000" cy="913320"/>
              </a:xfrm>
              <a:prstGeom prst="pie">
                <a:avLst/>
              </a:prstGeom>
              <a:solidFill>
                <a:srgbClr val="0033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Freeform 70"/>
              <p:cNvSpPr/>
              <p:nvPr/>
            </p:nvSpPr>
            <p:spPr>
              <a:xfrm>
                <a:off x="5544360" y="2434320"/>
                <a:ext cx="1028880" cy="920880"/>
              </a:xfrm>
              <a:prstGeom prst="pi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Freeform 71"/>
              <p:cNvSpPr/>
              <p:nvPr/>
            </p:nvSpPr>
            <p:spPr>
              <a:xfrm>
                <a:off x="4532040" y="2437920"/>
                <a:ext cx="1018080" cy="913320"/>
              </a:xfrm>
              <a:prstGeom prst="pie">
                <a:avLst/>
              </a:prstGeom>
              <a:solidFill>
                <a:srgbClr val="cc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Freeform 72"/>
              <p:cNvSpPr/>
              <p:nvPr/>
            </p:nvSpPr>
            <p:spPr>
              <a:xfrm>
                <a:off x="4526280" y="2434320"/>
                <a:ext cx="1029960" cy="920880"/>
              </a:xfrm>
              <a:prstGeom prst="pi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Freeform 73"/>
              <p:cNvSpPr/>
              <p:nvPr/>
            </p:nvSpPr>
            <p:spPr>
              <a:xfrm>
                <a:off x="4375440" y="1981800"/>
                <a:ext cx="1174680" cy="913320"/>
              </a:xfrm>
              <a:prstGeom prst="pie">
                <a:avLst/>
              </a:prstGeom>
              <a:solidFill>
                <a:srgbClr val="6600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Freeform 74"/>
              <p:cNvSpPr/>
              <p:nvPr/>
            </p:nvSpPr>
            <p:spPr>
              <a:xfrm>
                <a:off x="4369680" y="1977840"/>
                <a:ext cx="1186560" cy="920880"/>
              </a:xfrm>
              <a:prstGeom prst="pi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Freeform 75"/>
              <p:cNvSpPr/>
              <p:nvPr/>
            </p:nvSpPr>
            <p:spPr>
              <a:xfrm>
                <a:off x="4532040" y="1525320"/>
                <a:ext cx="1018080" cy="912600"/>
              </a:xfrm>
              <a:prstGeom prst="pie">
                <a:avLst/>
              </a:prstGeom>
              <a:solidFill>
                <a:srgbClr val="0066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Freeform 76"/>
              <p:cNvSpPr/>
              <p:nvPr/>
            </p:nvSpPr>
            <p:spPr>
              <a:xfrm>
                <a:off x="4526280" y="1521720"/>
                <a:ext cx="1029960" cy="920880"/>
              </a:xfrm>
              <a:prstGeom prst="pi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4" name="Elipse 12"/>
            <p:cNvSpPr/>
            <p:nvPr/>
          </p:nvSpPr>
          <p:spPr>
            <a:xfrm>
              <a:off x="4803120" y="1980000"/>
              <a:ext cx="1464120" cy="916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CaixaDeTexto 14"/>
            <p:cNvSpPr/>
            <p:nvPr/>
          </p:nvSpPr>
          <p:spPr>
            <a:xfrm rot="1443600">
              <a:off x="6379200" y="3045240"/>
              <a:ext cx="113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BILITAÇÃO D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RIMENTO E D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STÃO  PEL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MAND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CaixaDeTexto 15"/>
            <p:cNvSpPr/>
            <p:nvPr/>
          </p:nvSpPr>
          <p:spPr>
            <a:xfrm rot="3151800">
              <a:off x="5865840" y="3417120"/>
              <a:ext cx="106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PARÊNCI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 DAT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ERTO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CaixaDeTexto 16"/>
            <p:cNvSpPr/>
            <p:nvPr/>
          </p:nvSpPr>
          <p:spPr>
            <a:xfrm rot="4450200">
              <a:off x="5414760" y="3516120"/>
              <a:ext cx="925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C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ÇO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LIGENTE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CaixaDeTexto 17"/>
            <p:cNvSpPr/>
            <p:nvPr/>
          </p:nvSpPr>
          <p:spPr>
            <a:xfrm rot="17009400">
              <a:off x="4729320" y="3606840"/>
              <a:ext cx="102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Ú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UDABILIDA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CaixaDeTexto 18"/>
            <p:cNvSpPr/>
            <p:nvPr/>
          </p:nvSpPr>
          <p:spPr>
            <a:xfrm rot="18300000">
              <a:off x="4208760" y="3538440"/>
              <a:ext cx="83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GURANÇ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UMINAÇÃ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CaixaDeTexto 19"/>
            <p:cNvSpPr/>
            <p:nvPr/>
          </p:nvSpPr>
          <p:spPr>
            <a:xfrm rot="19330800">
              <a:off x="3689280" y="3205800"/>
              <a:ext cx="111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ALMENT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BRANTE &amp; FELIZ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CaixaDeTexto 20"/>
            <p:cNvSpPr/>
            <p:nvPr/>
          </p:nvSpPr>
          <p:spPr>
            <a:xfrm rot="20178000">
              <a:off x="3367800" y="280224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PORT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LIGENT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CaixaDeTexto 21"/>
            <p:cNvSpPr/>
            <p:nvPr/>
          </p:nvSpPr>
          <p:spPr>
            <a:xfrm rot="21385800">
              <a:off x="3135240" y="2239560"/>
              <a:ext cx="1194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ORIDA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ÇÕES LIMPAS,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ÃO MOTORIZADA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CaixaDeTexto 22"/>
            <p:cNvSpPr/>
            <p:nvPr/>
          </p:nvSpPr>
          <p:spPr>
            <a:xfrm rot="792000">
              <a:off x="3279960" y="1776600"/>
              <a:ext cx="96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AL 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ESSO MIST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CaixaDeTexto 23"/>
            <p:cNvSpPr/>
            <p:nvPr/>
          </p:nvSpPr>
          <p:spPr>
            <a:xfrm>
              <a:off x="4973760" y="314280"/>
              <a:ext cx="1066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DICADOR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CaixaDeTexto 24"/>
            <p:cNvSpPr/>
            <p:nvPr/>
          </p:nvSpPr>
          <p:spPr>
            <a:xfrm>
              <a:off x="5018040" y="4409640"/>
              <a:ext cx="1066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DICADOR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CaixaDeTexto 25"/>
            <p:cNvSpPr/>
            <p:nvPr/>
          </p:nvSpPr>
          <p:spPr>
            <a:xfrm rot="5400000">
              <a:off x="7538760" y="2311200"/>
              <a:ext cx="1066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DICADOR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CaixaDeTexto 26"/>
            <p:cNvSpPr/>
            <p:nvPr/>
          </p:nvSpPr>
          <p:spPr>
            <a:xfrm rot="16200000">
              <a:off x="2479320" y="2301840"/>
              <a:ext cx="1066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DICADOR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CaixaDeTexto 27"/>
            <p:cNvSpPr/>
            <p:nvPr/>
          </p:nvSpPr>
          <p:spPr>
            <a:xfrm>
              <a:off x="4856400" y="2203560"/>
              <a:ext cx="1357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DAD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LIGEN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CaixaDeTexto 28"/>
            <p:cNvSpPr/>
            <p:nvPr/>
          </p:nvSpPr>
          <p:spPr>
            <a:xfrm rot="16200000">
              <a:off x="4233240" y="2289600"/>
              <a:ext cx="85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BILIDA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LIGENT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CaixaDeTexto 29"/>
            <p:cNvSpPr/>
            <p:nvPr/>
          </p:nvSpPr>
          <p:spPr>
            <a:xfrm rot="2341800">
              <a:off x="3683160" y="1316880"/>
              <a:ext cx="90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IVAR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IATIVIDA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CaixaDeTexto 30"/>
            <p:cNvSpPr/>
            <p:nvPr/>
          </p:nvSpPr>
          <p:spPr>
            <a:xfrm rot="3409200">
              <a:off x="4253760" y="998640"/>
              <a:ext cx="71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LUSÃ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CIAL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CaixaDeTexto 31"/>
            <p:cNvSpPr/>
            <p:nvPr/>
          </p:nvSpPr>
          <p:spPr>
            <a:xfrm rot="4669800">
              <a:off x="4752720" y="88128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ÇÃ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ÉCULOS  21/2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CaixaDeTexto 32"/>
            <p:cNvSpPr/>
            <p:nvPr/>
          </p:nvSpPr>
          <p:spPr>
            <a:xfrm rot="17847000">
              <a:off x="5884920" y="1134360"/>
              <a:ext cx="102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TIVIDA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CaixaDeTexto 33"/>
            <p:cNvSpPr/>
            <p:nvPr/>
          </p:nvSpPr>
          <p:spPr>
            <a:xfrm rot="19380600">
              <a:off x="6357240" y="139572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ECTIVIDADE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E GLOBAL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CaixaDeTexto 34"/>
            <p:cNvSpPr/>
            <p:nvPr/>
          </p:nvSpPr>
          <p:spPr>
            <a:xfrm rot="20573400">
              <a:off x="6902640" y="177840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FICAÇÕE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DE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CaixaDeTexto 35"/>
            <p:cNvSpPr/>
            <p:nvPr/>
          </p:nvSpPr>
          <p:spPr>
            <a:xfrm>
              <a:off x="7187040" y="2282040"/>
              <a:ext cx="64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ERGI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CaixaDeTexto 36"/>
            <p:cNvSpPr/>
            <p:nvPr/>
          </p:nvSpPr>
          <p:spPr>
            <a:xfrm rot="778800">
              <a:off x="6640560" y="2716200"/>
              <a:ext cx="117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NEJAMENT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RBANO/SISTEMA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DE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CaixaDeTexto 37"/>
            <p:cNvSpPr/>
            <p:nvPr/>
          </p:nvSpPr>
          <p:spPr>
            <a:xfrm rot="1108200">
              <a:off x="5544720" y="1698480"/>
              <a:ext cx="85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CONOMI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LIGENT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CaixaDeTexto 38"/>
            <p:cNvSpPr/>
            <p:nvPr/>
          </p:nvSpPr>
          <p:spPr>
            <a:xfrm rot="5400000">
              <a:off x="6016320" y="2256840"/>
              <a:ext cx="85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DA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LIGENT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CaixaDeTexto 39"/>
            <p:cNvSpPr/>
            <p:nvPr/>
          </p:nvSpPr>
          <p:spPr>
            <a:xfrm rot="9295800">
              <a:off x="5533560" y="2874240"/>
              <a:ext cx="85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GOVERN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LIGENT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CaixaDeTexto 40"/>
            <p:cNvSpPr/>
            <p:nvPr/>
          </p:nvSpPr>
          <p:spPr>
            <a:xfrm rot="11870400">
              <a:off x="4724640" y="2854800"/>
              <a:ext cx="85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VER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LIGENT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CaixaDeTexto 41"/>
            <p:cNvSpPr/>
            <p:nvPr/>
          </p:nvSpPr>
          <p:spPr>
            <a:xfrm rot="20121000">
              <a:off x="4690080" y="1697400"/>
              <a:ext cx="85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DADÃ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LIGENT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6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286840" cy="4006800"/>
          </a:xfrm>
          <a:prstGeom prst="rect">
            <a:avLst/>
          </a:prstGeom>
          <a:ln w="0">
            <a:noFill/>
          </a:ln>
        </p:spPr>
      </p:pic>
      <p:sp>
        <p:nvSpPr>
          <p:cNvPr id="804" name="Oval 11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tângulo 2"/>
          <p:cNvSpPr/>
          <p:nvPr/>
        </p:nvSpPr>
        <p:spPr>
          <a:xfrm>
            <a:off x="0" y="4786200"/>
            <a:ext cx="9144000" cy="285840"/>
          </a:xfrm>
          <a:prstGeom prst="rect">
            <a:avLst/>
          </a:prstGeom>
          <a:solidFill>
            <a:srgbClr val="00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GEC 26 - </a:t>
            </a:r>
            <a:r>
              <a:rPr b="1" lang="pt-BR" sz="1200" spc="-1" strike="noStrike">
                <a:solidFill>
                  <a:srgbClr val="ffffff"/>
                </a:solidFill>
                <a:latin typeface="Arial Narrow"/>
              </a:rPr>
              <a:t>O COMPARTILHAMENTO DO DESENVOLVIMENTO E IMPLEMENTAÇÃO DE REDES... -  EDUARDO 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Retângulo 3"/>
          <p:cNvSpPr/>
          <p:nvPr/>
        </p:nvSpPr>
        <p:spPr>
          <a:xfrm>
            <a:off x="357120" y="142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7" name="Imagem 8" descr="Energy Choice Logo"/>
          <p:cNvPicPr/>
          <p:nvPr/>
        </p:nvPicPr>
        <p:blipFill>
          <a:blip r:embed="rId2"/>
          <a:stretch/>
        </p:blipFill>
        <p:spPr>
          <a:xfrm>
            <a:off x="71280" y="171360"/>
            <a:ext cx="1857600" cy="471600"/>
          </a:xfrm>
          <a:prstGeom prst="rect">
            <a:avLst/>
          </a:prstGeom>
          <a:ln w="0">
            <a:noFill/>
          </a:ln>
        </p:spPr>
      </p:pic>
      <p:sp>
        <p:nvSpPr>
          <p:cNvPr id="808" name="Retângulo 6"/>
          <p:cNvSpPr/>
          <p:nvPr/>
        </p:nvSpPr>
        <p:spPr>
          <a:xfrm>
            <a:off x="2786040" y="785880"/>
            <a:ext cx="3571920" cy="7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Retângulo 7"/>
          <p:cNvSpPr/>
          <p:nvPr/>
        </p:nvSpPr>
        <p:spPr>
          <a:xfrm>
            <a:off x="2071800" y="142920"/>
            <a:ext cx="5786280" cy="571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  <a:ea typeface="Arial"/>
              </a:rPr>
              <a:t>EVOLUÇÃO D0S SISTEMAS DE INTER-RELAÇÕ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Oval 14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Retângulo 2"/>
          <p:cNvSpPr/>
          <p:nvPr/>
        </p:nvSpPr>
        <p:spPr>
          <a:xfrm>
            <a:off x="0" y="4786200"/>
            <a:ext cx="9144000" cy="285840"/>
          </a:xfrm>
          <a:prstGeom prst="rect">
            <a:avLst/>
          </a:prstGeom>
          <a:solidFill>
            <a:srgbClr val="00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GEC 26 - </a:t>
            </a:r>
            <a:r>
              <a:rPr b="1" lang="pt-BR" sz="1200" spc="-1" strike="noStrike">
                <a:solidFill>
                  <a:srgbClr val="ffffff"/>
                </a:solidFill>
                <a:latin typeface="Arial Narrow"/>
              </a:rPr>
              <a:t>O COMPARTILHAMENTO DO DESENVOLVIMENTO E IMPLEMENTAÇÃO DE REDES... -  EDUARDO 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Retângulo 3"/>
          <p:cNvSpPr/>
          <p:nvPr/>
        </p:nvSpPr>
        <p:spPr>
          <a:xfrm>
            <a:off x="357120" y="142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3" name="Imagem 8" descr="Energy Choice Logo"/>
          <p:cNvPicPr/>
          <p:nvPr/>
        </p:nvPicPr>
        <p:blipFill>
          <a:blip r:embed="rId1"/>
          <a:stretch/>
        </p:blipFill>
        <p:spPr>
          <a:xfrm>
            <a:off x="142920" y="214200"/>
            <a:ext cx="1857240" cy="4716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7" descr=""/>
          <p:cNvPicPr/>
          <p:nvPr/>
        </p:nvPicPr>
        <p:blipFill>
          <a:blip r:embed="rId2"/>
          <a:stretch/>
        </p:blipFill>
        <p:spPr>
          <a:xfrm>
            <a:off x="2643120" y="34920"/>
            <a:ext cx="6357960" cy="4707000"/>
          </a:xfrm>
          <a:prstGeom prst="rect">
            <a:avLst/>
          </a:prstGeom>
          <a:ln w="0">
            <a:noFill/>
          </a:ln>
        </p:spPr>
      </p:pic>
      <p:sp>
        <p:nvSpPr>
          <p:cNvPr id="815" name="Elipse 6"/>
          <p:cNvSpPr/>
          <p:nvPr/>
        </p:nvSpPr>
        <p:spPr>
          <a:xfrm>
            <a:off x="0" y="1643040"/>
            <a:ext cx="2786040" cy="1557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tângulo 7"/>
          <p:cNvSpPr/>
          <p:nvPr/>
        </p:nvSpPr>
        <p:spPr>
          <a:xfrm>
            <a:off x="428760" y="1714680"/>
            <a:ext cx="2000160" cy="1500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  <a:ea typeface="Arial"/>
              </a:rPr>
              <a:t>CIDAD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  <a:ea typeface="Arial"/>
              </a:rPr>
              <a:t>INTELIGE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00000"/>
                </a:solidFill>
                <a:latin typeface="Arial"/>
                <a:ea typeface="Arial"/>
              </a:rPr>
              <a:t>POSIÇÃO ATU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Imagem 13" descr="Primeira cidade inteligente do Brasil será inaugurada ainda este ano, Imagem aérea de Smart City Laguna. Image via Engenharia 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6120" y="928800"/>
            <a:ext cx="5357880" cy="25714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4" descr="http://www.plataformaurbana.cl/wp-content/uploads/2014/06/1402276408_resultados_santiago_icim_2014-528x403.png"/>
          <p:cNvPicPr/>
          <p:nvPr/>
        </p:nvPicPr>
        <p:blipFill>
          <a:blip r:embed="rId3"/>
          <a:stretch/>
        </p:blipFill>
        <p:spPr>
          <a:xfrm>
            <a:off x="2428920" y="2895480"/>
            <a:ext cx="2571840" cy="1962360"/>
          </a:xfrm>
          <a:prstGeom prst="rect">
            <a:avLst/>
          </a:prstGeom>
          <a:ln w="0">
            <a:noFill/>
          </a:ln>
        </p:spPr>
      </p:pic>
      <p:sp>
        <p:nvSpPr>
          <p:cNvPr id="819" name="Oval 19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tângulo 11"/>
          <p:cNvSpPr/>
          <p:nvPr/>
        </p:nvSpPr>
        <p:spPr>
          <a:xfrm>
            <a:off x="0" y="4786200"/>
            <a:ext cx="9144000" cy="285840"/>
          </a:xfrm>
          <a:prstGeom prst="rect">
            <a:avLst/>
          </a:prstGeom>
          <a:solidFill>
            <a:srgbClr val="0066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GEC 26 - </a:t>
            </a:r>
            <a:r>
              <a:rPr b="1" lang="pt-BR" sz="1200" spc="-1" strike="noStrike">
                <a:solidFill>
                  <a:srgbClr val="ffffff"/>
                </a:solidFill>
                <a:latin typeface="Arial Narrow"/>
              </a:rPr>
              <a:t>O COMPARTILHAMENTO DO DESENVOLVIMENTO E IMPLEMENTAÇÃO DE REDES... -  EDUARDO 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Retângulo 14"/>
          <p:cNvSpPr/>
          <p:nvPr/>
        </p:nvSpPr>
        <p:spPr>
          <a:xfrm>
            <a:off x="357120" y="142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2" name="Imagem 8" descr="Energy Choice Logo"/>
          <p:cNvPicPr/>
          <p:nvPr/>
        </p:nvPicPr>
        <p:blipFill>
          <a:blip r:embed="rId4"/>
          <a:stretch/>
        </p:blipFill>
        <p:spPr>
          <a:xfrm>
            <a:off x="142920" y="214200"/>
            <a:ext cx="1857240" cy="471600"/>
          </a:xfrm>
          <a:prstGeom prst="rect">
            <a:avLst/>
          </a:prstGeom>
          <a:ln w="0">
            <a:noFill/>
          </a:ln>
        </p:spPr>
      </p:pic>
      <p:sp>
        <p:nvSpPr>
          <p:cNvPr id="823" name="Retângulo 9"/>
          <p:cNvSpPr/>
          <p:nvPr/>
        </p:nvSpPr>
        <p:spPr>
          <a:xfrm>
            <a:off x="2643120" y="642960"/>
            <a:ext cx="34290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Retângulo 10"/>
          <p:cNvSpPr/>
          <p:nvPr/>
        </p:nvSpPr>
        <p:spPr>
          <a:xfrm>
            <a:off x="3000240" y="0"/>
            <a:ext cx="4286520" cy="857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Arial"/>
                <a:ea typeface="Arial"/>
              </a:rPr>
              <a:t>AMERICA LATIN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558ed5"/>
                </a:solidFill>
                <a:latin typeface="Arial"/>
                <a:ea typeface="Arial"/>
              </a:rPr>
              <a:t>PROJETOS EM CURS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Retângulo 15"/>
          <p:cNvSpPr/>
          <p:nvPr/>
        </p:nvSpPr>
        <p:spPr>
          <a:xfrm>
            <a:off x="4357800" y="857160"/>
            <a:ext cx="4786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2060"/>
                </a:solidFill>
                <a:latin typeface="Calibri"/>
              </a:rPr>
              <a:t>Smart City Laguna, Croatá - São Gonçalo do Amarante, CE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tângulo 13"/>
          <p:cNvSpPr/>
          <p:nvPr/>
        </p:nvSpPr>
        <p:spPr>
          <a:xfrm>
            <a:off x="2668680" y="5724360"/>
            <a:ext cx="143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d0d0d"/>
                </a:solidFill>
                <a:latin typeface="Arial"/>
                <a:ea typeface="Arial"/>
              </a:rPr>
              <a:t>Resultados Santiago. Fuente: ICIM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Retângulo de cantos arredondados 16"/>
          <p:cNvSpPr/>
          <p:nvPr/>
        </p:nvSpPr>
        <p:spPr>
          <a:xfrm>
            <a:off x="142920" y="928800"/>
            <a:ext cx="2857320" cy="242892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100 INTELIGENT  C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Cali – Medell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Qui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Porto Alegre – Rio de Janeir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Santa  Fé  (Argentin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Juarez (Méxic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San Juan (Puerto Ric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Santiago de los Caballer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Retângulo de cantos arredondados 18"/>
          <p:cNvSpPr/>
          <p:nvPr/>
        </p:nvSpPr>
        <p:spPr>
          <a:xfrm>
            <a:off x="4929120" y="357192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cc"/>
                </a:solidFill>
                <a:latin typeface="Arial"/>
                <a:ea typeface="Arial"/>
              </a:rPr>
              <a:t>OUTROS PROJET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cc"/>
                </a:solidFill>
                <a:latin typeface="Arial"/>
                <a:ea typeface="Arial"/>
              </a:rPr>
              <a:t>Bogot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cc"/>
                </a:solidFill>
                <a:latin typeface="Arial"/>
                <a:ea typeface="Arial"/>
              </a:rPr>
              <a:t>Curitiba, São Paul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cc"/>
                </a:solidFill>
                <a:latin typeface="Arial"/>
                <a:ea typeface="Arial"/>
              </a:rPr>
              <a:t>Monterr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cc"/>
                </a:solidFill>
                <a:latin typeface="Arial"/>
                <a:ea typeface="Arial"/>
              </a:rPr>
              <a:t>Li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6" descr=""/>
          <p:cNvPicPr/>
          <p:nvPr/>
        </p:nvPicPr>
        <p:blipFill>
          <a:blip r:embed="rId1"/>
          <a:stretch/>
        </p:blipFill>
        <p:spPr>
          <a:xfrm>
            <a:off x="1071720" y="428760"/>
            <a:ext cx="7215120" cy="4062240"/>
          </a:xfrm>
          <a:prstGeom prst="rect">
            <a:avLst/>
          </a:prstGeom>
          <a:ln w="0">
            <a:noFill/>
          </a:ln>
        </p:spPr>
      </p:pic>
      <p:sp>
        <p:nvSpPr>
          <p:cNvPr id="830" name="Retângulo 7"/>
          <p:cNvSpPr/>
          <p:nvPr/>
        </p:nvSpPr>
        <p:spPr>
          <a:xfrm>
            <a:off x="1357200" y="785880"/>
            <a:ext cx="6429600" cy="642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Arial"/>
                <a:ea typeface="Arial"/>
              </a:rPr>
              <a:t>COMO SE MULTIPLICA E PROLIFERA A IDC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Oval 12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tângulo 2"/>
          <p:cNvSpPr/>
          <p:nvPr/>
        </p:nvSpPr>
        <p:spPr>
          <a:xfrm>
            <a:off x="0" y="4786200"/>
            <a:ext cx="9144000" cy="285840"/>
          </a:xfrm>
          <a:prstGeom prst="rect">
            <a:avLst/>
          </a:prstGeom>
          <a:solidFill>
            <a:srgbClr val="00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GEC 26 - </a:t>
            </a:r>
            <a:r>
              <a:rPr b="1" lang="pt-BR" sz="1200" spc="-1" strike="noStrike">
                <a:solidFill>
                  <a:srgbClr val="ffffff"/>
                </a:solidFill>
                <a:latin typeface="Arial Narrow"/>
              </a:rPr>
              <a:t>O COMPARTILHAMENTO DO DESENVOLVIMENTO E IMPLEMENTAÇÃO DE REDES... -  EDUARDO 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Retângulo 3"/>
          <p:cNvSpPr/>
          <p:nvPr/>
        </p:nvSpPr>
        <p:spPr>
          <a:xfrm>
            <a:off x="357120" y="142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4" name="Imagem 8" descr="Energy Choice Logo"/>
          <p:cNvPicPr/>
          <p:nvPr/>
        </p:nvPicPr>
        <p:blipFill>
          <a:blip r:embed="rId2"/>
          <a:stretch/>
        </p:blipFill>
        <p:spPr>
          <a:xfrm>
            <a:off x="142920" y="214200"/>
            <a:ext cx="185724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9T11:02:55Z</dcterms:created>
  <dc:creator>WallE</dc:creator>
  <dc:description/>
  <dc:language>en-US</dc:language>
  <cp:lastModifiedBy>usuario</cp:lastModifiedBy>
  <dcterms:modified xsi:type="dcterms:W3CDTF">2017-10-10T15:26:07Z</dcterms:modified>
  <cp:revision>55</cp:revision>
  <dc:subject/>
  <dc:title>PowerPoint Presentation</dc:title>
</cp:coreProperties>
</file>