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90B85-5FC0-4CA2-891B-5BF0FD7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3172-0D02-41EE-83A4-EC1B7A7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EDD0C-85A8-4FE6-866B-8C1DE04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C79E8-0B89-436E-88C2-AC68626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B8BC-134C-48EE-83C2-8FA8F7C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D3046-D829-4378-BF7B-B945848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CE2A-23C8-4D97-BA09-ED4C8F36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3C3BE-412B-47DE-8E33-FD312F1D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19B0-5942-4891-8C8A-E0D56F22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A6551-D728-47F1-BDEA-E6A9FDB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225E-E631-4B55-AE48-FE3CA465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4A475-74E0-4C22-9D2F-DAE05DB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0E51-0CB7-492A-8A05-0B2A99A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964CE-DD62-4170-BCB1-7F2E049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78C52-CD90-4912-93D3-BF3EA09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4A0BF-EA06-4D97-BB1F-E9327E5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48A6-FB06-4E3B-B6D8-C666C37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F09A5-7734-4912-BA36-E61712D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9B814-18D4-4D40-990C-7551FA70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8447A-CFC3-4AF3-BEB0-678ECC44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E54D8-5FDE-4565-AE17-D33587FA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49FFC-CDF2-46DB-8483-45D78702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6456C-1DAE-436B-A4EE-EE53A6A4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EE230-59A9-42FE-8D6B-5FA38BD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40FFB-A8C8-4BE3-AED5-E0D4991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63D52-D04D-4F62-AEE3-BEA9B55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6102B-2F44-47F8-8F40-22EA06B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0722C-87F8-4630-A2B4-97193A7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73895-80C3-48BE-871C-2DA8C81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E6D70-E936-4BA5-BF11-F54A8B2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66B-DBAB-4FC8-889A-064BE0A6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0A4E4-0B60-46A6-B452-F2C89713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EFFDC-AAB9-4F2E-AE59-0F0808B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C59D0-91BA-4436-92A0-26035352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8B92C-5F5F-4BDE-B2E8-CFC3FB45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151F-89DA-42FE-945A-67B5843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577D8-B7F9-46E6-9EA6-6F10B25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F16FD-39EC-4E42-B12A-AED41A0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96C2D-D120-4F82-B86C-2C236B3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63E60-79FC-447B-87C8-03B5A032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C8E0B-E868-4544-8771-FB7B68C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65D-564B-452C-B601-4833811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BF588-533F-4631-A3A6-03B5EE9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11BD5-CA6F-4913-BA64-E725548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D5EC1-938F-4680-9067-91BD773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841D-9F5D-42C0-BBEE-6F57FC91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20EB-F9F6-4221-AD27-81786D5B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028-B0D0-4E0B-9A57-DF4A7B4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A5E-3E1E-422F-9F03-81949E0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49A-7608-4DD6-958B-8B8185D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9A7-2355-4BBB-9219-4D19840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520-B092-4463-8ED0-46F0319E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968-37B5-4FCE-89D5-1AD9ACE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FA6-EE1F-46DF-B20D-0CDC20E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AF7-6FDA-4504-A920-88F7266E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CE3-120A-4724-B0F8-C0151631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F29-1AA6-4E3F-B584-B76D4E36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C5C-9C32-4343-B525-BFE5AF54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9FE-0650-4448-BA95-74FEF95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3DA-89B4-4F9A-A5E3-D71FE0C6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0757-E8D4-4C97-99FF-17E3CCB2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FF38-399A-4425-9D49-490F2794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D6FA-108C-4B24-B8F8-411C12BA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63C-28A1-4F90-A846-03C994E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A15C-3CE4-4A80-B6E9-0F4AA475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392C-203F-4DA3-9749-2C775DAA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9CFE-4982-4663-A814-7C5C31B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01C2-CF4A-4D8D-B7CB-BDBD8AB0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4977-BAA3-42FA-B82F-3A2067BA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DA64-F5CC-4B37-BF53-760DA9D5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EC6F-4ACB-4A26-B26A-B6CE570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34FA-F469-4D53-9CE1-976D5137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DFD7-A982-4C46-838C-6DD53706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E333-BDA3-4F5D-A29B-E86C0A38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9564-7375-49D8-B809-7D95A099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C27D-B201-4BA0-A1C4-36BF7DD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80DC-9EA3-433B-99D9-553A8B0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B56C-C47D-4794-924F-588D18E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4AAC-3A81-43DC-88DA-9324821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8DF9-FF67-43C3-BB93-1C860AFA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10DB-8683-41A4-8562-79E9652A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39B6-E07B-426E-867F-5CB1B7CE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A4F1-2A9A-44E1-8738-8264633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2DEC-9F61-4C12-BE36-88B7788E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E0CA-FDFD-4BCE-8E78-6D9C788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4B4F-21AF-4053-860C-F49A0F04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82D1-232A-459F-B4E9-12547735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AD32E-98BA-4191-A779-A1F091A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3CB0-3A22-441E-AE40-207159C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04BF-6893-486E-8467-3399BFA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7E6E-1B7A-4AE2-81EF-12D1CE6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5925-3D38-4CDC-9316-501C034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19B5-FF02-461C-B068-2788A01A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2E73-C9CE-43A2-9675-7131B3A5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ABE0-862E-4FED-81C8-0C5A2E1B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7900-01B8-4691-B03C-3F10670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A949-04E7-4F55-8C8A-883B284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8C1B-C8CC-44FE-A658-90C079D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C92E-4041-4CE3-9459-6902B6C1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93B3-B270-4704-87AA-AFAEBCE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B164-3357-40E1-94C5-E3DBE2D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D399-B090-4A11-BBFB-FFAC574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785C-A9F6-44CA-8C63-4BD1921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A3CF-5BB5-471A-884F-147B12D7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3D82-F732-45FE-BD87-BBF5A19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749F-E23E-4DDE-B397-6FD369C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B727-553C-494F-8A99-8C16CA27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E147-85CD-4320-8CFC-2186B004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A6E0-DDD3-49CB-90D2-B9ADACAB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88CB-81D5-49C4-AF7C-127E1ED9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0400-F0DC-4BEA-823A-86519E6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ECC82-47E0-4A1D-A1DD-1E44892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8A98-8D8D-471A-959D-CACD2AC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E358-E1C6-4CE1-B3DA-222E66E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A3583-0A5A-43FD-B6D4-520A190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8FA1-28ED-499D-BAC1-9684DECA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62B36-22FC-4593-B3B1-87730F1E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1D1EF-9A2F-42EE-BE0B-44555AD1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9EA3-D2C3-439F-8DC9-FC7BB0B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35AC-1EB6-4603-A9D9-F88830F7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09D5-2A3C-45D7-80F7-BA7BE812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AF46-C984-4854-A86D-80689450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74FE-4E44-46F1-9F8D-F450734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7510-F1E4-4E37-B506-0083BD5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0FA9-6B57-478C-B139-58C507E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F5DE-DD0D-4EE6-AC8B-BBAB479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28771-6F15-413F-89E5-B41976A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A5F0-2571-41D9-93EF-50DEE59E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999D-64DA-4076-9474-3FEB27F2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67EA-34B3-477E-A071-1AAE0559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569C-81FA-4213-93BB-109955F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D915-70BE-4789-BFCA-C271CDD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5C7-CE9D-4B32-8178-03D6691470E9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E2E2-5B56-4BF6-82AC-C2C6D19ECF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69E-4E38-4E95-BBE9-F7A9A455EE54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D52C-CF18-4E46-AC8F-40FBF74394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FAE-7C94-4517-8208-171CE9459894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6C5-EEF0-4CAD-8E75-9DD31361D5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0C9-7C6D-4D54-8D5A-D17B0BB5FA40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D53-F754-472D-97FD-A966E357A0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6AF-6A99-4415-9EEB-61BE81CC75FE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FAA-8512-440E-A87D-4927BE5DC1B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1A4-6139-42E3-90CA-E26AF9DCD2FD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7D72-8753-49CF-8C3B-B7DEB2F04F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C6D8-0D1A-4AA2-A596-E051EC61369C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929C-90FC-4ABE-8848-7E6F5A22C8F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785B-9BF8-4840-9D5F-9832F75E723F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6AF-5002-4CE5-859C-0BB15E5DEE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641-76B5-4D09-8BEA-0665B59D08FD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7E7D-52B6-44C3-9AF1-30D185D5073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ABCA-8591-4704-85C5-A0E585B42173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BD6-7CBF-49B2-9825-063AE689715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"/>
          <p:cNvSpPr/>
          <p:nvPr/>
        </p:nvSpPr>
        <p:spPr>
          <a:xfrm>
            <a:off x="-36360" y="481500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Multinacionais Fundo de Investimentos e de Pensão atuantes no Setor -  </a:t>
            </a:r>
            <a:r>
              <a:rPr b="0" lang="pt-BR" sz="1100" spc="-1" strike="noStrike">
                <a:solidFill>
                  <a:srgbClr val="ffffff"/>
                </a:solidFill>
                <a:latin typeface="Calibri"/>
                <a:ea typeface="Verdana"/>
              </a:rPr>
              <a:t>G16/Thadeu Rocha e equ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66182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15"/>
          <p:cNvSpPr/>
          <p:nvPr/>
        </p:nvSpPr>
        <p:spPr>
          <a:xfrm>
            <a:off x="69022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16"/>
          <p:cNvSpPr/>
          <p:nvPr/>
        </p:nvSpPr>
        <p:spPr>
          <a:xfrm>
            <a:off x="6759720" y="4948200"/>
            <a:ext cx="7272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70437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71848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732636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746748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1"/>
          <p:cNvSpPr/>
          <p:nvPr/>
        </p:nvSpPr>
        <p:spPr>
          <a:xfrm>
            <a:off x="76089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2"/>
          <p:cNvSpPr/>
          <p:nvPr/>
        </p:nvSpPr>
        <p:spPr>
          <a:xfrm>
            <a:off x="7750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23"/>
          <p:cNvSpPr/>
          <p:nvPr/>
        </p:nvSpPr>
        <p:spPr>
          <a:xfrm>
            <a:off x="7893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24"/>
          <p:cNvSpPr/>
          <p:nvPr/>
        </p:nvSpPr>
        <p:spPr>
          <a:xfrm>
            <a:off x="8034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Oval 25"/>
          <p:cNvSpPr/>
          <p:nvPr/>
        </p:nvSpPr>
        <p:spPr>
          <a:xfrm>
            <a:off x="8175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26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AAB-74C4-4AF2-9CC2-8CF8DF2F2456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7C5-9D32-4665-9202-B65EDDF439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\\ZEUS\ArquivosWX\Clientes\SNPTEE 2017\SNPTEE\Arquivos\Sem Título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684360" y="3219480"/>
            <a:ext cx="255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395280" y="41112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Verdana"/>
              </a:rPr>
              <a:t>MULTINACIONAIS, FUNDOS DE INVESTIMENTO E FUNDOS DE PENSÃO ATUANTES NO SETOR ELÉTRICO: UM EXAME DO PORTFÓLIO E DA ESTRATÉGIA DE ATU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traight Connector 7"/>
          <p:cNvSpPr/>
          <p:nvPr/>
        </p:nvSpPr>
        <p:spPr>
          <a:xfrm>
            <a:off x="-36360" y="4732200"/>
            <a:ext cx="3168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95280" y="2716200"/>
            <a:ext cx="28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GRUPO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Jailson J. M. Alves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Thadeu F. Rocha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Carlos E. R. Pereira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Bernardo Souza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Eduardo Arduíno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Ricardo Modenesi (EL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179280" y="91584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s fusões e aquisições como resposta estratégica ao acirramento do ambiente concorrencial decorrente da globalização, novas oportunidades de investimento decorrentes de privatizações, além da busca de sinergias de natureza tecnológica, financeira, mercadológica e operacional (economias de escala e escopo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 intensificação destas operações propicia o surgimento de megacorporações e concentração produtiv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s conjunturas de prosperidade ou crise impulsionam o movimento de fusões e aquisições, no sentido de aproveitar janelas de oportunidade dos momentos de crescimento econômico ou a partir da aquisição de empresas financeiramente abaladas por crises econômicas locais e extern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2291760" y="4111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ultinacionais atuantes no território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774684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179280" y="915840"/>
            <a:ext cx="8785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aradigma Eclético (Dunning, 2008) -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três grandes variáveis de anális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Ownership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propriedade) ex: fatores endógenos, et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Location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localização)  ex: aspectos institucionais, intervencionismo, et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nternalisation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internacionalização) ex: políticas governamentais para atração de multinacionais, et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 </a:t>
            </a:r>
            <a:r>
              <a:rPr b="1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+ Dimensão Institucional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x: instituições formais, informais, disfunçõe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Diplomacia Triangular (Strange, 1992)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– três grandes níveis de anális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Estado-Estado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 ex: acordos comerciais e de cooperação entre países, etc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Estado-Empresa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ex: missões diplomáticas, Câmaras do Comércio, etc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Empresa-Empresa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ex: acordos entre firmas, parcerias, P&amp;D, et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1719360" y="411120"/>
            <a:ext cx="58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spectos Teóricos: Internacionalização de empr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val 13"/>
          <p:cNvSpPr/>
          <p:nvPr/>
        </p:nvSpPr>
        <p:spPr>
          <a:xfrm>
            <a:off x="789156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179280" y="934920"/>
            <a:ext cx="87854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randes Fundos de Pensão Nacionais (Previ, Petros e Funcef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- Grandes Fundos de Pensão Estrangeiros (ex: fundos de professores, policiais, bombeiros, funcionários de empresas dos EU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undos Soberanos com Foco em Previdência (ex: Noruega) ou Investimento de Reservas (ex: Cingapur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entenas de Fundos de Investimento registrados na CVM (ex: com a palavra chave “energia” existem mais de 40 fundos na CVM e com a palavra “infraestrutura” cerca de 70 fundo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mplexidade nas relações entre estes fundos nas diversas empresas do SE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140560" y="41112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undos de Pensão e Fundo de Investi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13"/>
          <p:cNvSpPr/>
          <p:nvPr/>
        </p:nvSpPr>
        <p:spPr>
          <a:xfrm>
            <a:off x="802944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3"/>
          <p:cNvSpPr/>
          <p:nvPr/>
        </p:nvSpPr>
        <p:spPr>
          <a:xfrm>
            <a:off x="179280" y="91584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rescente financeirização do setor elétrico e diversidade na estrutura de capital das companhi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apitalismo de laços enfatizando a construção de alianças estratégic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usões e aquisições e busca de economias de escala e sinergias opera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orça das empresas chinesas e robustez nas condições de funding destas empres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ragilidade da Economia, novos ciclos de privatizações e desinvestimentos abrindo espaço para consolidações no se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2916360" y="4111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13"/>
          <p:cNvSpPr/>
          <p:nvPr/>
        </p:nvSpPr>
        <p:spPr>
          <a:xfrm>
            <a:off x="81723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179280" y="9158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 crescente entrada de multinacionais, fundos de pensão e de  investimento nacionais e estrangeiros no setor elétrico também estão relacionados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maior convergência global em relação as regras de governanç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similaridade entre práticas corporativas de gestão integrada de risco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doção de regras contábeis globais (IFR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processos de auditoria internacionalmente aceitos conduzidos pelas “Big Four” (KPMG, Delloitte, Ernest Young e PWC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classificação de risco conduzidos pelas principais agências de rating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respeito às regras, procedimentos e relatórios da CVM e SE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Situação Atual impõe desafios para ANEEL, CVM, CAD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13"/>
          <p:cNvSpPr/>
          <p:nvPr/>
        </p:nvSpPr>
        <p:spPr>
          <a:xfrm>
            <a:off x="83170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2916360" y="4111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Oval 17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C:\Users\WallE\Desktop\Sem Título-4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9"/>
          <p:cNvSpPr/>
          <p:nvPr/>
        </p:nvSpPr>
        <p:spPr>
          <a:xfrm>
            <a:off x="1403280" y="1563840"/>
            <a:ext cx="37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Thadeu Figueiredo Roc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25"/>
          <p:cNvSpPr/>
          <p:nvPr/>
        </p:nvSpPr>
        <p:spPr>
          <a:xfrm>
            <a:off x="1763640" y="343548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thadeu@eletrobra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3" descr="C:\Users\WallE\Desktop\e-mail-envelope.png"/>
          <p:cNvPicPr/>
          <p:nvPr/>
        </p:nvPicPr>
        <p:blipFill>
          <a:blip r:embed="rId2"/>
          <a:stretch/>
        </p:blipFill>
        <p:spPr>
          <a:xfrm>
            <a:off x="1403280" y="3478320"/>
            <a:ext cx="249480" cy="250560"/>
          </a:xfrm>
          <a:prstGeom prst="rect">
            <a:avLst/>
          </a:prstGeom>
          <a:ln w="0">
            <a:noFill/>
          </a:ln>
        </p:spPr>
      </p:pic>
      <p:sp>
        <p:nvSpPr>
          <p:cNvPr id="709" name="Straight Connector 32"/>
          <p:cNvSpPr/>
          <p:nvPr/>
        </p:nvSpPr>
        <p:spPr>
          <a:xfrm>
            <a:off x="-36360" y="1971720"/>
            <a:ext cx="4502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3"/>
          <p:cNvSpPr/>
          <p:nvPr/>
        </p:nvSpPr>
        <p:spPr>
          <a:xfrm>
            <a:off x="395280" y="10587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Fontes de Informações sobre Multinacionais e Fun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Agência Nacional de Energia Elétrica (ANEEL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Comissão de Valores Mobiliários (CVM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Documentos financeiros das companhias e fun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mplexidade na formatação do portfólio das principais companhias do seto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uitas empresas repartem ativos entre holdings, subholdings, braços de atuação internacional, empresas S/A e LTDA do mesmo grupo econôm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16360" y="411120"/>
            <a:ext cx="30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siderações Ini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61824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395280" y="987480"/>
            <a:ext cx="85694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Exemplos de Fundos de Pensão com ativos no SEB (Previ, Petros, Func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tuação dos Fundos de Pensão em momentos distint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privatização dos anos 9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investimentos em leilões a partir do Modelo Institucional 200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investimentos em projetos estrutur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Outras formas de influência do Estado no investimento no set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BNDES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FI-FG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	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- Fundos de Investimento de bancos controlados pela Uni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3"/>
          <p:cNvSpPr/>
          <p:nvPr/>
        </p:nvSpPr>
        <p:spPr>
          <a:xfrm>
            <a:off x="676116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2916360" y="411120"/>
            <a:ext cx="30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siderações Ini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95280" y="9874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O crescente interesse de investidores no Brasil deve ser analisado sob o prisma da globalização econômica e financei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O mercado de energia elétrica atrai companhias envolvidas com o fornecimento de máquinas e equipamentos, obras de engenharia, geração, transmissão, distribuição, comercialização, investimento, financiamento e pesqui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Este trabalho pretende confirmar a hipótese de que a concorrência no setor elétrico vai muito além da mera disputa entre empresas típicas de energia elétrica, haja vista a participação efetiva dos diversos elos da indústria na estrutura de capital dos a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2916360" y="4111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apitalismo de Laç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690552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179280" y="915840"/>
            <a:ext cx="878544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 cooperação entre firmas possibilita a redução de barreiras da entrada, diversificação de risco e maior suporte financeiro em um setor intensivo em capi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Os leilões de empreendimentos de geração e transmissão mobilizam a formatação de Sociedades de Propósito Específico – SPEs para participarem dos certam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O setor é marcado por intensos movimentos de fusões e aquisições voltados para busca de ganhos de escala e sinergias opera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As privatizações de concessões de geração de geração não renovadas no âmbito da Lei 12783/2013, desinvestimentos da Eletrobras e Petrobras também configuram locus de prevalência do capitalismo de laç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Oval 13"/>
          <p:cNvSpPr/>
          <p:nvPr/>
        </p:nvSpPr>
        <p:spPr>
          <a:xfrm>
            <a:off x="704844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2916360" y="4111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apitalismo de Laç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179280" y="915840"/>
            <a:ext cx="8785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O </a:t>
            </a:r>
            <a:r>
              <a:rPr b="0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odus operandi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das grandes companhias envolve uma análise multi-nível, o que abrange a dimensão macroeconômica (foco nas ações de Estado), mesoeconômica (instituições do setor) e microeconômica (lógica da firm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Três ciclos de entrada de multinacionais no setor elétric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1º CICLO (fins do século XIX até venda Amforp e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tuação em grandes centros urbanos (foco municipal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nterface com fabricantes de máquinas e equipamentos elétricos globai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orça das empresas na Arena Legislativa e Relações Interna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ntenso Movimento de Fusões e Aquisições de Empresas Municip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2291760" y="4111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ultinacionais atuantes no território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71928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179280" y="84312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2º CICLO (privatizações anos 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aneamento Setorial pré-privat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apitalismo de Laços (parcerias com empresas nacionais e fundos de pensão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ntrada simultânea em diversos mercados da América Latin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arcerias Acionárias Cruzadas (emaranhado de relações societária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tuação do BNDES, BNDESPar, Previ e preços convidativos de venda de a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3º CICLO (Novo Modelo Institucional 2004 até os dias atua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Leilões Reversos, Proinfa, Projetos Estruturantes, SPEs e Sinergias E.E e Gá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ntenso Movimento de Fusões e Aquisições no Mundo e no Brasi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orça das Multinacionais Chinesas e Européi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arcerias com empresas na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mpliação dos Fundos de Investimento e Pensão Nacionais e Interna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orça dos Fundos Soberanos e Bancos de Desenvolvimento Internaciona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2291760" y="4111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ultinacionais atuantes no território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13"/>
          <p:cNvSpPr/>
          <p:nvPr/>
        </p:nvSpPr>
        <p:spPr>
          <a:xfrm>
            <a:off x="731988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3"/>
          <p:cNvSpPr/>
          <p:nvPr/>
        </p:nvSpPr>
        <p:spPr>
          <a:xfrm>
            <a:off x="108000" y="843120"/>
            <a:ext cx="8928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7f7f7f"/>
                </a:solidFill>
                <a:uFillTx/>
                <a:latin typeface="Arial"/>
                <a:ea typeface="Tahoma"/>
              </a:rPr>
              <a:t>1º CICLO (fins do século XIX até venda Amforp e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P Tramway , Light and Power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RJ Tramway , Light and Power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Canadá/EUA)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mpresas no PA, AM e PE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 1905, 1910,1912, capital inglês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merican &amp; Foreign Power Company - AMFORP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1927, capital norte-american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7f7f7f"/>
                </a:solidFill>
                <a:uFillTx/>
                <a:latin typeface="Arial"/>
                <a:ea typeface="Tahoma"/>
              </a:rPr>
              <a:t>2º CICLO (Privatizações anos 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nergia de Portugal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Portugal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ndesa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Espanh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berdrola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Espanha),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AES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EU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Duke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EU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outhern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EU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nron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EU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letricité de France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Franç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ensylvania Power Light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EU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SA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Colômbia)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7f7f7f"/>
                </a:solidFill>
                <a:uFillTx/>
                <a:latin typeface="Arial"/>
                <a:ea typeface="Tahoma"/>
              </a:rPr>
              <a:t>3º CICLO (Modelo Institucional 2004 até os dias atua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tate Grid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Chin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hina Three Goorges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Chin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nel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(Itáli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E-ON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Alemanh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DF Suez - Engie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França),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bengoa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(Espanha), </a:t>
            </a: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Statkraft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Noruega), </a:t>
            </a: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SunEdison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EUA), </a:t>
            </a: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Canadian Solar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Canadá), </a:t>
            </a: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Voltalia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França), </a:t>
            </a:r>
            <a:r>
              <a:rPr b="1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ContourGlobal </a:t>
            </a:r>
            <a:r>
              <a:rPr b="0" lang="af-ZA" sz="1800" spc="-1" strike="noStrike">
                <a:solidFill>
                  <a:srgbClr val="7f7f7f"/>
                </a:solidFill>
                <a:latin typeface="Arial"/>
                <a:ea typeface="Tahoma"/>
              </a:rPr>
              <a:t>(EUA),  etc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2916360" y="411120"/>
            <a:ext cx="31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rincipai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746460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1476360" y="339840"/>
            <a:ext cx="61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Transações societárias entre  SEB desde plano 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76136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Imagem 4" descr=""/>
          <p:cNvPicPr/>
          <p:nvPr/>
        </p:nvPicPr>
        <p:blipFill>
          <a:blip r:embed="rId1"/>
          <a:stretch/>
        </p:blipFill>
        <p:spPr>
          <a:xfrm>
            <a:off x="1547640" y="1058760"/>
            <a:ext cx="5832720" cy="2952720"/>
          </a:xfrm>
          <a:prstGeom prst="rect">
            <a:avLst/>
          </a:prstGeom>
          <a:ln w="0">
            <a:noFill/>
          </a:ln>
        </p:spPr>
      </p:pic>
      <p:sp>
        <p:nvSpPr>
          <p:cNvPr id="688" name="CaixaDeTexto 5"/>
          <p:cNvSpPr/>
          <p:nvPr/>
        </p:nvSpPr>
        <p:spPr>
          <a:xfrm>
            <a:off x="900000" y="415620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558 transações (1994 até 1 º trim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9T11:02:55Z</dcterms:created>
  <dc:creator>WallE</dc:creator>
  <dc:description/>
  <dc:language>en-US</dc:language>
  <cp:lastModifiedBy>thadeuf</cp:lastModifiedBy>
  <dcterms:modified xsi:type="dcterms:W3CDTF">2017-10-10T17:15:42Z</dcterms:modified>
  <cp:revision>27</cp:revision>
  <dc:subject/>
  <dc:title>PowerPoint Presentation</dc:title>
</cp:coreProperties>
</file>