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A207-A264-4527-AE73-15C9FAD41D7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 LCC não provoca alteração na impedancia vista das UTE. A Impedancia é de natureza indutiva desde 0,5 até 60 HZ. Inexiste a possib de ressonancia 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ADD-F5B9-4D6F-9B86-A0339AEB116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ço Reservado para Número de Slide 3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300A-6480-44A6-A186-232E27DB567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062-7443-45C4-BB11-FC58F52C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948-88AE-4490-AE44-BDB84A30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063-C138-4B11-B71D-4C8FDC84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F64-92B4-4468-A6E8-8D29D58F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577-5028-46FE-B68C-EBD9F67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200-6204-43CC-9520-E7350ED0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740-1316-40A7-BC3E-7BC00BA6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555-F81A-4B82-B34E-78EFD65E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3069-951D-48D6-B458-FBC3AB56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0E1-DE45-47EF-BD4C-BDEE3F7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BBD-6676-49F5-B5F8-CB49F14C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F34-D931-4901-B6EB-82A7BDB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CFCE-5308-4C56-8BD0-38EDF1699F5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jamaia@chesf.gov.br" TargetMode="External"/><Relationship Id="rId3" Type="http://schemas.openxmlformats.org/officeDocument/2006/relationships/hyperlink" Target="mailto:magnata@ufpe.br" TargetMode="External"/><Relationship Id="rId4" Type="http://schemas.openxmlformats.org/officeDocument/2006/relationships/hyperlink" Target="mailto:fefranca@chesf.gov.b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285840" y="1216800"/>
            <a:ext cx="8715240" cy="76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RUPO VIII – GSE 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4928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rupo de Estudo de Subestações e Equipamentos de Alta Tensã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3"/>
          <p:cNvSpPr/>
          <p:nvPr/>
        </p:nvSpPr>
        <p:spPr>
          <a:xfrm>
            <a:off x="285840" y="2214720"/>
            <a:ext cx="8643960" cy="155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MITADOR DE CORRENTE DE CURTO CIRCUITO A BASE DE REATOR SATURADO: ESPECIFICAÇÃO, ESTUDOS, CONSTRUÇÃO, ENSAIOS E COMISSIONAMENTO NO SISTEMA DA CH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6"/>
          <p:cNvSpPr/>
          <p:nvPr/>
        </p:nvSpPr>
        <p:spPr>
          <a:xfrm>
            <a:off x="357120" y="4057560"/>
            <a:ext cx="8572680" cy="2502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000" spc="-1" strike="noStrike">
                <a:solidFill>
                  <a:srgbClr val="ffffff"/>
                </a:solidFill>
                <a:latin typeface="Arial"/>
              </a:rPr>
              <a:t>Au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rcelo José Albuquerque Maia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– Chesf *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uiz Antonio Magnata da Fonte – UFP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rnando Edier França Freitas – Chesf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99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ator Saturado – Ensaios de R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1" descr=""/>
          <p:cNvPicPr/>
          <p:nvPr/>
        </p:nvPicPr>
        <p:blipFill>
          <a:blip r:embed="rId2"/>
          <a:stretch/>
        </p:blipFill>
        <p:spPr>
          <a:xfrm>
            <a:off x="714240" y="1739880"/>
            <a:ext cx="7286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3"/>
          <p:cNvSpPr/>
          <p:nvPr/>
        </p:nvSpPr>
        <p:spPr>
          <a:xfrm>
            <a:off x="1500120" y="2548080"/>
            <a:ext cx="62866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Harmô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pactos da Rede El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3"/>
          <p:cNvSpPr/>
          <p:nvPr/>
        </p:nvSpPr>
        <p:spPr>
          <a:xfrm>
            <a:off x="1500120" y="3476520"/>
            <a:ext cx="63579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sonância Sub-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785880" y="2500200"/>
          <a:ext cx="7072200" cy="3000600"/>
        </p:xfrm>
        <a:graphic>
          <a:graphicData uri="http://schemas.openxmlformats.org/drawingml/2006/table">
            <a:tbl>
              <a:tblPr/>
              <a:tblGrid>
                <a:gridCol w="2351160"/>
                <a:gridCol w="2333520"/>
                <a:gridCol w="2387520"/>
              </a:tblGrid>
              <a:tr h="66204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la 5 (IEEE Std 51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8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a Bar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orção Harmônica Individu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orção Harmônica 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97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&lt;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0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 &lt; 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CaixaDeTexto 3"/>
          <p:cNvSpPr/>
          <p:nvPr/>
        </p:nvSpPr>
        <p:spPr>
          <a:xfrm>
            <a:off x="1500120" y="1500120"/>
            <a:ext cx="628668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Harmô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28760" y="2306520"/>
          <a:ext cx="7929360" cy="3694320"/>
        </p:xfrm>
        <a:graphic>
          <a:graphicData uri="http://schemas.openxmlformats.org/drawingml/2006/table">
            <a:tbl>
              <a:tblPr/>
              <a:tblGrid>
                <a:gridCol w="1928520"/>
                <a:gridCol w="908280"/>
                <a:gridCol w="735120"/>
                <a:gridCol w="788760"/>
                <a:gridCol w="789120"/>
                <a:gridCol w="750960"/>
                <a:gridCol w="1014120"/>
                <a:gridCol w="1014480"/>
              </a:tblGrid>
              <a:tr h="242640">
                <a:tc grid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la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840">
                <a:tc gridSpan="2"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OND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SISTEMA SEM L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SISTEMA COM L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892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Energização do banco                                 de capaci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892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urto-circuito Trif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ur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0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0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0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2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2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74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urto-circuito Bifásico                     F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ur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2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4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9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9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94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,0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,09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,0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92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urto-circuito  Monofásico F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ur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3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0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0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4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5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5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11" name="CaixaDeTexto 3"/>
          <p:cNvSpPr/>
          <p:nvPr/>
        </p:nvSpPr>
        <p:spPr>
          <a:xfrm>
            <a:off x="857160" y="1214280"/>
            <a:ext cx="742968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Harmô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6"/>
          <p:cNvSpPr/>
          <p:nvPr/>
        </p:nvSpPr>
        <p:spPr>
          <a:xfrm>
            <a:off x="285840" y="3532320"/>
            <a:ext cx="8501040" cy="1739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CONDIÇÕES DOS ESTUDOS EFETU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na condição original sem a presença do LC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com o LCC em operação normal sem defeito (RSN for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com o LCC operando em curto, sem o RSN e os capacit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com o LCC numa configuração especial apenas com o capac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3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sonância Sub-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4"/>
          <p:cNvSpPr/>
          <p:nvPr/>
        </p:nvSpPr>
        <p:spPr>
          <a:xfrm>
            <a:off x="785880" y="2214720"/>
            <a:ext cx="7358040" cy="6426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sença de Máquinas Rotativ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pacitores Sé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1"/>
          <p:cNvGrpSpPr/>
          <p:nvPr/>
        </p:nvGrpSpPr>
        <p:grpSpPr>
          <a:xfrm>
            <a:off x="1971720" y="2286000"/>
            <a:ext cx="4886280" cy="3314520"/>
            <a:chOff x="1971720" y="2286000"/>
            <a:chExt cx="4886280" cy="3314520"/>
          </a:xfrm>
        </p:grpSpPr>
        <p:pic>
          <p:nvPicPr>
            <p:cNvPr id="118" name="Picture 2" descr="Figura#36"/>
            <p:cNvPicPr/>
            <p:nvPr/>
          </p:nvPicPr>
          <p:blipFill>
            <a:blip r:embed="rId2"/>
            <a:stretch/>
          </p:blipFill>
          <p:spPr>
            <a:xfrm>
              <a:off x="1971720" y="2286000"/>
              <a:ext cx="4886280" cy="28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3"/>
            <p:cNvSpPr/>
            <p:nvPr/>
          </p:nvSpPr>
          <p:spPr>
            <a:xfrm>
              <a:off x="4000320" y="5308560"/>
              <a:ext cx="84672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Calibri"/>
                </a:rPr>
                <a:t>Figura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CaixaDeTexto 3"/>
          <p:cNvSpPr/>
          <p:nvPr/>
        </p:nvSpPr>
        <p:spPr>
          <a:xfrm>
            <a:off x="928800" y="133344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sonância Sub-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22" name="CaixaDeTexto 3"/>
          <p:cNvSpPr/>
          <p:nvPr/>
        </p:nvSpPr>
        <p:spPr>
          <a:xfrm>
            <a:off x="785880" y="135720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SAIOS NO CE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DSC03136"/>
          <p:cNvPicPr/>
          <p:nvPr/>
        </p:nvPicPr>
        <p:blipFill>
          <a:blip r:embed="rId2"/>
          <a:srcRect l="0" t="34106" r="0" b="15606"/>
          <a:stretch/>
        </p:blipFill>
        <p:spPr>
          <a:xfrm>
            <a:off x="928800" y="2465280"/>
            <a:ext cx="7119720" cy="289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3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ultado de Ens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843280" y="5099040"/>
            <a:ext cx="5357880" cy="156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3"/>
          <a:stretch/>
        </p:blipFill>
        <p:spPr>
          <a:xfrm>
            <a:off x="2843280" y="3443400"/>
            <a:ext cx="5356080" cy="15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24000" y="5749920"/>
          <a:ext cx="1714320" cy="487440"/>
        </p:xfrm>
        <a:graphic>
          <a:graphicData uri="http://schemas.openxmlformats.org/drawingml/2006/table">
            <a:tbl>
              <a:tblPr/>
              <a:tblGrid>
                <a:gridCol w="455400"/>
                <a:gridCol w="125892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890 k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,916 kV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4021200"/>
          <a:ext cx="1643040" cy="487440"/>
        </p:xfrm>
        <a:graphic>
          <a:graphicData uri="http://schemas.openxmlformats.org/drawingml/2006/table">
            <a:tbl>
              <a:tblPr/>
              <a:tblGrid>
                <a:gridCol w="438120"/>
                <a:gridCol w="120492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,947 k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,410 kV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3059280" y="1897200"/>
            <a:ext cx="5217840" cy="152856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250920" y="206064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f= 2,326 kA ef  (3,3 k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p= 15 kA ef  (21,21 k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33" name="CaixaDeTexto 3"/>
          <p:cNvSpPr/>
          <p:nvPr/>
        </p:nvSpPr>
        <p:spPr>
          <a:xfrm>
            <a:off x="642960" y="2290680"/>
            <a:ext cx="778680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resentou-se aspectos construtivos do LCC com destaque para o dimensionamento e especificação básica dos seus componentes, reator linear, capacitores e reator sat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ixaDeTexto 5"/>
          <p:cNvSpPr/>
          <p:nvPr/>
        </p:nvSpPr>
        <p:spPr>
          <a:xfrm>
            <a:off x="642960" y="3648240"/>
            <a:ext cx="778680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modelagem para estudos de transitórios para verificar o  desempenho do LCC + sistema é de fácil implementação, não necessitando de desenvolviment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ixaDeTexto 6"/>
          <p:cNvSpPr/>
          <p:nvPr/>
        </p:nvSpPr>
        <p:spPr>
          <a:xfrm>
            <a:off x="642960" y="5076720"/>
            <a:ext cx="778680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 instalação do LCC na CHESF, os ensaios no CEPEL , ensejarão que outras empresas do setor elétrico brasileiro venham, na seqüência, implantar esse tipo de equip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ixaDeTexto 6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2268360" y="1571760"/>
            <a:ext cx="5016600" cy="4483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UITO OBRIGA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jamaia@chesf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l.: +55 81 3229-2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magnata@ufpe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l.: +55 81 2126-7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fefranca@chesf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l.: +55 81 3229-26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714240" y="1609560"/>
            <a:ext cx="742968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285840" y="1484280"/>
            <a:ext cx="864396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RQUITETURA DO L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142920" y="2128680"/>
            <a:ext cx="3543120" cy="124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3"/>
          <a:stretch/>
        </p:blipFill>
        <p:spPr>
          <a:xfrm>
            <a:off x="1428840" y="3666960"/>
            <a:ext cx="221940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Conteúdo 2"/>
          <p:cNvSpPr/>
          <p:nvPr/>
        </p:nvSpPr>
        <p:spPr>
          <a:xfrm>
            <a:off x="4214880" y="2143080"/>
            <a:ext cx="4643280" cy="4500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Condição Normal de Op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Condição de Curto Circu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6215040" y="3500280"/>
            <a:ext cx="976320" cy="438480"/>
          </a:xfrm>
          <a:prstGeom prst="rightArrow">
            <a:avLst>
              <a:gd name="adj1" fmla="val 50000"/>
              <a:gd name="adj2" fmla="val 55665"/>
            </a:avLst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6072120" y="5491080"/>
            <a:ext cx="976320" cy="438120"/>
          </a:xfrm>
          <a:prstGeom prst="rightArrow">
            <a:avLst>
              <a:gd name="adj1" fmla="val 50000"/>
              <a:gd name="adj2" fmla="val 55711"/>
            </a:avLst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714240" y="1484280"/>
            <a:ext cx="742968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SULTADOS LABORATO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m 69" descr=""/>
          <p:cNvPicPr/>
          <p:nvPr/>
        </p:nvPicPr>
        <p:blipFill>
          <a:blip r:embed="rId2"/>
          <a:stretch/>
        </p:blipFill>
        <p:spPr>
          <a:xfrm>
            <a:off x="100080" y="2000160"/>
            <a:ext cx="504360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Imagem 56" descr=""/>
          <p:cNvPicPr/>
          <p:nvPr/>
        </p:nvPicPr>
        <p:blipFill>
          <a:blip r:embed="rId3"/>
          <a:stretch/>
        </p:blipFill>
        <p:spPr>
          <a:xfrm>
            <a:off x="4857840" y="4124160"/>
            <a:ext cx="40719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165320" y="1357200"/>
            <a:ext cx="681300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ULAÇÕES – COMPARAÇÃO CHAVE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544840" y="2097000"/>
            <a:ext cx="4114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2"/>
          <p:cNvSpPr/>
          <p:nvPr/>
        </p:nvSpPr>
        <p:spPr>
          <a:xfrm>
            <a:off x="714240" y="1484280"/>
            <a:ext cx="742968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QUISIÇÃO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57120" y="2558880"/>
          <a:ext cx="3714840" cy="3084840"/>
        </p:xfrm>
        <a:graphic>
          <a:graphicData uri="http://schemas.openxmlformats.org/drawingml/2006/table">
            <a:tbl>
              <a:tblPr/>
              <a:tblGrid>
                <a:gridCol w="2500560"/>
                <a:gridCol w="1214280"/>
              </a:tblGrid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ominal  (V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Nominal  (A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tância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tância Nominal  (m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ência Nominal (kV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I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ator Linear – 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0" descr=""/>
          <p:cNvPicPr/>
          <p:nvPr/>
        </p:nvPicPr>
        <p:blipFill>
          <a:blip r:embed="rId2"/>
          <a:stretch/>
        </p:blipFill>
        <p:spPr>
          <a:xfrm>
            <a:off x="4786200" y="2000160"/>
            <a:ext cx="41101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85840" y="2500200"/>
          <a:ext cx="3143160" cy="3143520"/>
        </p:xfrm>
        <a:graphic>
          <a:graphicData uri="http://schemas.openxmlformats.org/drawingml/2006/table">
            <a:tbl>
              <a:tblPr/>
              <a:tblGrid>
                <a:gridCol w="2357280"/>
                <a:gridCol w="785880"/>
              </a:tblGrid>
              <a:tr h="45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ominal  (V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Nominal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ência Nominal (kV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itância (u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tância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I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apacitores – 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7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50720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3"/>
          <p:cNvSpPr/>
          <p:nvPr/>
        </p:nvSpPr>
        <p:spPr>
          <a:xfrm>
            <a:off x="714240" y="1285920"/>
            <a:ext cx="778680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ator Saturado – 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7" descr=""/>
          <p:cNvPicPr/>
          <p:nvPr/>
        </p:nvPicPr>
        <p:blipFill>
          <a:blip r:embed="rId2"/>
          <a:stretch/>
        </p:blipFill>
        <p:spPr>
          <a:xfrm>
            <a:off x="5802480" y="2205000"/>
            <a:ext cx="2698560" cy="43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00040" y="2071800"/>
          <a:ext cx="3143160" cy="4322520"/>
        </p:xfrm>
        <a:graphic>
          <a:graphicData uri="http://schemas.openxmlformats.org/drawingml/2006/table">
            <a:tbl>
              <a:tblPr/>
              <a:tblGrid>
                <a:gridCol w="2357640"/>
                <a:gridCol w="785520"/>
              </a:tblGrid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ominal  (V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Nominal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ência Nominal (kV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ax Transitória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x Transitória (kA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0hz, 1m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I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e ativa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leo (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Total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4:44:51Z</dcterms:created>
  <dc:creator>JOCILIO TAVARES DE OLIVEIRA</dc:creator>
  <dc:description/>
  <dc:language>en-US</dc:language>
  <cp:lastModifiedBy>Start</cp:lastModifiedBy>
  <cp:lastPrinted>2013-03-20T14:48:23Z</cp:lastPrinted>
  <dcterms:modified xsi:type="dcterms:W3CDTF">2013-10-14T16:41:37Z</dcterms:modified>
  <cp:revision>72</cp:revision>
  <dc:subject/>
  <dc:title>Apresentação do PowerPoint</dc:title>
</cp:coreProperties>
</file>