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889-3CCF-4B1C-B7CF-967CA9A1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775-9AAA-4BAD-86AE-BD1CA132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897-B895-4AA3-8E89-62DFE81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CC7-9213-4563-B0C6-DF992A45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570-DD5F-46DD-9A9C-832BBF9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6DF-5160-470B-A7B7-B80FEEF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D10-0829-41C1-849D-78AD4AED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6C9-E463-4A73-B0A5-58E7E227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E9F-316C-4A45-ADAA-58FF4F52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856-E5AB-4F0F-8DD2-21E27E4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E26-7302-4DD4-B3E4-82D2EDC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FBD-1A52-472F-92F5-01AE6771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9A0-1299-462E-B505-B5BB89714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48428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1289160"/>
            <a:ext cx="822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42100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2276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VALIAÇÃO DA CONFIABILIDADE DO PÁTIO DE 230 kV DA SUBESTAÇÃO SÃO LUÍS II DA ELETRON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0280"/>
            <a:ext cx="6337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Airton Violin  - UNIFEI (apresentaçã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Armando M. Leite da Silva - UNIF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Cláudio Ferreira - UNIF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Zulmar S. Machado Jr – UNIF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Jader F. de Jesus – ELETROBRAS ELETRONOR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f497d"/>
                </a:solidFill>
                <a:latin typeface="Arial"/>
              </a:rPr>
              <a:t>Rafael L. M. Piccirili - ELETROBRAS ELETRONOR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6 – Conclusõ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Metodologia possibili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valiar as subestações de forma realist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Conhecer os limites e riscos para o sistem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Otimizar investimentos em subestaçõ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Avaliação do pátio de 230 kV da SE São Luís I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Sob a ótica da confiabilidade é viável a sua expansã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É possível certo “controle” nos indicadores de desempenh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1 - Objetiv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Responder a seguinte pergunt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É possível expandir o pátio de 230 kV da subestação para atender aos projetos industriais, aproveitando o espaço disponível neste páti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 pergunta foi respondida avaliando-se a confiabilidade da subestação sob dois aspectos: adequação e segurança operativa oferecida ao sistema elétr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 – Metodolog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mulação de falhas na 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Atuação da proteção e manobr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Lista dos estados mais críticos e probabili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→ 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mulação da estabilidade transitória: ANA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urto monofásico e abertura de circuit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erda de sincronism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mulação de cortes de cargas: FLUP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Abertura de circuitos e otim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rtes de cargas no sistem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Indicador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Expectativa de energia não suprida – EENS (MWh/ano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Probabilidade de perda de sincronismo – LOS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341360"/>
            <a:ext cx="871380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3 – Premiss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mulações dinâm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arga pesad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Atuação da proteção em 80 ms (primária) e 250 ms (retaguard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mportamento das máquinas da região Norte e fronteir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mulações estátic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arga méd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ubas da Alumar representadas por Potência constan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Sem redespacho de potência ativ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Região propensa a ocorrências de cortes de cargas: 230 kV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</a:rPr>
              <a:t>→</a:t>
            </a: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istem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Horizonte 2014: SE com 17 bays, com 4 bancos – 600 MV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Horizonte 2020: SE com 24 bays, com 5 bancos – 600 M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4 – Configurações do pátio de 230 kV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698508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01040" y="6237360"/>
            <a:ext cx="47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nfiguração operacional para o ano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8137440" cy="4333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360" y="623736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rial"/>
              </a:rPr>
              <a:t>Configuração operacional do ano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5 - Resultados:              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Ano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806436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Ano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930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Frequências das máquinas de Tucuruí para o Caso 1 em 2014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57200" y="334800"/>
            <a:ext cx="8229600" cy="1020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5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7056720" cy="293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76720" y="4869000"/>
            <a:ext cx="561636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76360" y="55166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Indicador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44:51Z</dcterms:created>
  <dc:creator>JOCILIO TAVARES DE OLIVEIRA</dc:creator>
  <dc:description/>
  <dc:language>en-US</dc:language>
  <cp:lastModifiedBy>Airton</cp:lastModifiedBy>
  <cp:lastPrinted>2013-03-20T14:48:23Z</cp:lastPrinted>
  <dcterms:modified xsi:type="dcterms:W3CDTF">2013-09-19T19:15:50Z</dcterms:modified>
  <cp:revision>101</cp:revision>
  <dc:subject/>
  <dc:title>Apresentação do PowerPoint</dc:title>
</cp:coreProperties>
</file>